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3563984"/>
        <c:axId val="32082903"/>
      </c:barChart>
      <c:catAx>
        <c:axId val="2356398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2082903"/>
        <c:crosses val="autoZero"/>
        <c:auto val="1"/>
        <c:lblAlgn val="ctr"/>
        <c:lblOffset val="100"/>
        <c:noMultiLvlLbl val="0"/>
      </c:catAx>
      <c:valAx>
        <c:axId val="3208290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56398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4BA11-3985-410B-8FFD-0F09D9CC9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7788F-48DA-4197-8613-DFAF88849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C561A-8C7B-45EB-82B6-C943AF586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D6557-27C9-453C-9F03-CD7E32335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3D410-222F-446D-8D2F-8B98AEB25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59E81-6BCD-47E5-9968-0525754D8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56E9C-7CC8-487A-ABB1-EB52C6902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42745-F92B-4F44-87F4-C9CCF3ED0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74068-4097-4651-A65C-69879245E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CA995-2733-4C0D-A476-607FFD309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F8A85-5783-4FD1-BB8E-5E8429C82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0F6EC-52F5-4ACD-A79E-2C3C5477B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DE18CA-BF1F-43E8-B826-7DFEAAA3D6C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