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62380"/>
        <c:axId val="52980222"/>
      </c:barChart>
      <c:catAx>
        <c:axId val="51662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80222"/>
        <c:crosses val="autoZero"/>
        <c:auto val="1"/>
        <c:lblAlgn val="ctr"/>
        <c:lblOffset val="100"/>
        <c:noMultiLvlLbl val="0"/>
      </c:catAx>
      <c:valAx>
        <c:axId val="52980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62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DBF-5E0A-4933-9E04-AB6AAA12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B1B-FB81-4A8E-B6E4-6DD51EB4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93E-EE36-45CC-96B4-CAEE5D08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E8A-D291-44A9-B362-DDED7211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D14-8589-4C15-8C4F-7BF49482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F60-0511-4CBB-8E07-F2FF1FCE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BFD-FFE1-4E1F-AB33-5C9E6266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125-13E4-4436-834E-9CF23E81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22F-F5CC-43E0-8439-8549423D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2EB-01BC-4922-8BD0-8965BC31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CCB-B450-4547-8533-3F04F6A5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C49-C4E7-413D-AFA6-E0E30E1B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7EFE8-FFC2-44E0-8ED6-27D1E61E18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