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98320"/>
        <c:axId val="46175460"/>
      </c:barChart>
      <c:catAx>
        <c:axId val="75098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5460"/>
        <c:crosses val="autoZero"/>
        <c:auto val="1"/>
        <c:lblAlgn val="ctr"/>
        <c:lblOffset val="100"/>
        <c:noMultiLvlLbl val="0"/>
      </c:catAx>
      <c:valAx>
        <c:axId val="46175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8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42E-7F58-4303-ABA0-39D29BAF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F8A-8838-4EF9-8AD3-6AEA91FF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4A6-E5C4-4D15-8331-A19788D5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C9A-FB33-4CE8-8CD8-6BE44032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742-662C-4276-9695-AB2958AD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443-081D-4284-ABF9-F43E4B7D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4F0-9337-4F19-9634-66EF688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DC8-D4F9-4891-8C72-C8CC8EEB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8B6-40D3-4D0E-85B6-28C638C7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B2F-55E9-41F3-B243-9F3159E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76F-98F0-4513-814F-A54C90E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5AA-3A6B-43D5-B768-04EBD79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FB648-4163-4E14-8192-0C9C3927D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