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16201"/>
        <c:axId val="18418407"/>
      </c:barChart>
      <c:catAx>
        <c:axId val="637162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18407"/>
        <c:crosses val="autoZero"/>
        <c:auto val="1"/>
        <c:lblAlgn val="ctr"/>
        <c:lblOffset val="100"/>
        <c:noMultiLvlLbl val="0"/>
      </c:catAx>
      <c:valAx>
        <c:axId val="18418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162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C4AA-AA37-4A50-B0DB-3B245DEE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3AE-2C64-4AF2-AC4F-0EA1DAC3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40A-3D64-44EA-89BA-9F074F80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DBE-318D-40F7-999D-327B17C1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9CB-E494-4084-9C57-847CF2A2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0D5-6379-41E6-B181-90DEC8BB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8791-5523-4A5C-AC66-FEBDC72C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8026-B7DA-4FBA-9D33-7FFD27EE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0B4-DD54-46CC-93B4-E08AF537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720D-234D-43C9-A36B-A605F5E5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98D-6A20-44C4-9B82-3F9693FB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26A-E70E-4E73-B8DC-4199D677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4035B-D3F0-4686-92DA-8F88B7951C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