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72716"/>
        <c:axId val="36455707"/>
      </c:barChart>
      <c:catAx>
        <c:axId val="66172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55707"/>
        <c:crosses val="autoZero"/>
        <c:auto val="1"/>
        <c:lblAlgn val="ctr"/>
        <c:lblOffset val="100"/>
        <c:noMultiLvlLbl val="0"/>
      </c:catAx>
      <c:valAx>
        <c:axId val="36455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72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F34D-86CA-44C5-BA1C-158FFE5A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06EE-ADCF-45F8-B3D6-8D5EF33C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B3D-E276-4C5C-8128-9977D27C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53D7-7AC2-4085-A2B2-7F3230D6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FC2-50D8-4BB1-9CC6-6AB6767B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AF7-C9C3-4376-A812-21623B53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253-90EE-4295-B0EB-FF5C6A7D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904-5DCE-45F8-936B-E7ED13A5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616-F3BF-4848-B6F9-7D2BD661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162-5E5B-458C-984D-0AD7C55B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46D-76F3-4535-AF90-4943882E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3E9-C263-4776-96C1-2ECC6EDB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5F9EA-7F51-49D5-9305-709712D587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