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89899"/>
        <c:axId val="27760095"/>
      </c:barChart>
      <c:catAx>
        <c:axId val="25898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60095"/>
        <c:crosses val="autoZero"/>
        <c:auto val="1"/>
        <c:lblAlgn val="ctr"/>
        <c:lblOffset val="100"/>
        <c:noMultiLvlLbl val="0"/>
      </c:catAx>
      <c:valAx>
        <c:axId val="277600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98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2BDD-F454-4542-A036-A836B4D7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7DF2-07DA-430E-92DD-03AEB5DC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ADC9-2394-4B36-AAE4-61FB695F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E299-166A-4471-8E81-58C2B577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9843-7AE5-41B1-9409-527F4893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BB04-27FD-4560-A30B-B8234C32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C403-A683-4C7E-A6FD-CFB8DA6A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47CA-47CF-41D7-8CCA-CFE1B254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BD99-45D1-4E4D-9457-4B0F0520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B7EA-CA31-4655-AB66-2304B12A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A3DD-19CC-41D6-8711-E314DBC3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1D6F-1111-4E6B-B621-4570D7D3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BAF50-C7E3-4695-8EFC-E5BBE4E055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