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15042"/>
        <c:axId val="56490068"/>
      </c:barChart>
      <c:catAx>
        <c:axId val="41515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90068"/>
        <c:crosses val="autoZero"/>
        <c:auto val="1"/>
        <c:lblAlgn val="ctr"/>
        <c:lblOffset val="100"/>
        <c:noMultiLvlLbl val="0"/>
      </c:catAx>
      <c:valAx>
        <c:axId val="56490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15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3CB-D575-42CB-AED2-47F98D45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465-CFE1-48A8-B360-9B2C3B96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395-AB98-41EF-8DA7-82782D81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64A-0532-45BE-91D9-35635E86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BB7-6536-406A-A516-6591E83D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3D5-D2A6-44E2-A6E1-D0AA79FD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62B-58A3-407B-9258-F763F3E5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C6B-31C9-4AC8-AFA1-41BC3B68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9D4D-CC94-46E4-BB77-6DDC0C9F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8ED-CB69-4952-87F1-884D664F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9F0-5D0F-4CD0-8095-A06F5D87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F48-E856-4327-9D8A-6EAA4F17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7001C-41D2-4656-9E5C-6883D2EDEB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