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23612"/>
        <c:axId val="89241994"/>
      </c:barChart>
      <c:catAx>
        <c:axId val="691236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41994"/>
        <c:crosses val="autoZero"/>
        <c:auto val="1"/>
        <c:lblAlgn val="ctr"/>
        <c:lblOffset val="100"/>
        <c:noMultiLvlLbl val="0"/>
      </c:catAx>
      <c:valAx>
        <c:axId val="892419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236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4C0-3520-4089-BA36-F8279235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35CD-27C3-464B-88C2-01FE988A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50C-FCF0-40EA-950E-561656C2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25E-F176-4336-889B-B9D3ACAC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94A-4669-4D1C-98EB-2CF918D2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1B99-E1F0-4947-B283-69EF6274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4167-9A34-4D50-A10B-EB130317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6ACC-68A4-4C05-9E6A-9B029EA3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799E-597B-4B4F-884E-28E558FC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1B7F-2C52-4CA9-B99C-5C36A1FF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57A-DE08-459A-9530-B5699DC4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633F-6EDF-44D7-8B8F-AA64EE16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E3E1B-516F-4F26-83C1-31D0776902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