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19073"/>
        <c:axId val="96727820"/>
      </c:barChart>
      <c:catAx>
        <c:axId val="51319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27820"/>
        <c:crosses val="autoZero"/>
        <c:auto val="1"/>
        <c:lblAlgn val="ctr"/>
        <c:lblOffset val="100"/>
        <c:noMultiLvlLbl val="0"/>
      </c:catAx>
      <c:valAx>
        <c:axId val="96727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9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E97-7F68-486C-90E4-BC5DA27B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C2A-975E-4782-A56E-3F0EB0D2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9C1-64A8-4594-A40D-779DC02B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265-4B59-4144-A3FB-93FF5CE7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F85-695C-4014-9E04-699075A0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C04-B1FA-4A84-AD38-2C8D5A10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15B-2970-4F83-ABE0-88327A0A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77A-E8F7-4FA9-A0E3-D40DE61C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F03-897A-4965-A160-EB751960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3E4-30F0-4C1E-AF9D-4607E44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B4C-882A-4049-9955-8D62E867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867-9C23-4A8B-BEDF-B6E401D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D69AB-056C-4928-BE5A-BC0E8BF69F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