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834138"/>
        <c:axId val="91086114"/>
      </c:barChart>
      <c:catAx>
        <c:axId val="328341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086114"/>
        <c:crosses val="autoZero"/>
        <c:auto val="1"/>
        <c:lblAlgn val="ctr"/>
        <c:lblOffset val="100"/>
        <c:noMultiLvlLbl val="0"/>
      </c:catAx>
      <c:valAx>
        <c:axId val="910861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8341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EB0E-97B0-4DA2-B415-FBAB9F6F0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CD5C-683D-41E0-96A0-A9154466D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7996-41E6-4E83-B4A2-8DAC71D01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A1AC-6B4F-45EC-BB59-1E06DE500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7907-BF7C-41F7-840D-EE78837A6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1FF7-047A-4E06-90F2-05D495473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9D0D-DBED-4098-86C8-861E2A999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CF52-FB97-4847-9708-B1D4ABBD6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4622-4729-4EA6-8A2B-AE65FCF87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6355-4FF2-4102-B9FE-5BD4D6360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B6D1-6306-49CB-97CA-0C0078B73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EA34-BD87-4E08-AC9C-D27B15DC9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AEAD36-7468-4A87-952E-D92418C0C3D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