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93683"/>
        <c:axId val="6507947"/>
      </c:barChart>
      <c:catAx>
        <c:axId val="45193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947"/>
        <c:crosses val="autoZero"/>
        <c:auto val="1"/>
        <c:lblAlgn val="ctr"/>
        <c:lblOffset val="100"/>
        <c:noMultiLvlLbl val="0"/>
      </c:catAx>
      <c:valAx>
        <c:axId val="6507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3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1F4-4BE3-46E4-B8AB-BD27D044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39E-F266-4815-A286-1C57361A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FED-87B2-4B1C-871B-4A754744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663-7C3B-4D58-8064-46B23775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53C-B337-4407-A231-E8F55DA9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AC5-9D19-40FC-8733-71FB56E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44C-0D45-4285-B6C1-96495BC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82B-0CBA-42C3-A1BC-54879B63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35C-ABB1-4A82-B01F-A8E034C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CEA-6092-46EB-B1FF-F19B31F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8BC-1AED-4FBF-835E-6AA66C3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079-0BC1-47F0-A1A1-E5CE451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AB632-256F-48F9-AE5D-A5650121CD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