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99346"/>
        <c:axId val="26385249"/>
      </c:barChart>
      <c:catAx>
        <c:axId val="27899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85249"/>
        <c:crosses val="autoZero"/>
        <c:auto val="1"/>
        <c:lblAlgn val="ctr"/>
        <c:lblOffset val="100"/>
        <c:noMultiLvlLbl val="0"/>
      </c:catAx>
      <c:valAx>
        <c:axId val="26385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99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292-DF02-4247-BAA5-098E2F72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62C-CA85-4362-BA32-B90A4E2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F5D-6963-49B8-B11C-EFCD2F4D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B45-5444-4E87-9E25-AA493DFE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BC0-8CB5-4407-9316-614E1E56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6D3-9794-4677-B11B-A01127D8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08A-5772-4D36-A066-887FA5A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09C-6141-4D6F-A478-D5862C71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865-E2AC-4A0A-8C03-14C2C54F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6E3-B34F-4977-92A7-FF92915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B38-D3EF-4036-9AE2-43E5818B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819-D227-43E1-AA7B-A7E5225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5A62D-847A-44DD-86F6-31AE3081D2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