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80550"/>
        <c:axId val="45737704"/>
      </c:barChart>
      <c:catAx>
        <c:axId val="60180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37704"/>
        <c:crosses val="autoZero"/>
        <c:auto val="1"/>
        <c:lblAlgn val="ctr"/>
        <c:lblOffset val="100"/>
        <c:noMultiLvlLbl val="0"/>
      </c:catAx>
      <c:valAx>
        <c:axId val="45737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80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441-464B-49C2-8E97-9DBEE301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B47-54C7-485D-B36F-1D41615D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0CA-BFDB-468B-8B5C-F0865418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EB7-F004-434E-9DFC-9A108FB1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08F-225B-4C47-8CB6-BC9B1FCC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4A0-F040-4FAE-A2D1-96103EC8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756-C319-4F9C-9CFC-0EBDD26C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465-585F-4113-8E10-AC17C844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0C6-CD2A-4CBA-A713-A3A29132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154-48FF-4D59-AFAB-76FBF485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FA9-AAAC-4697-9FEF-4924E3E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882-A1F8-4479-9707-44067605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3E70D-07A9-489B-AAC3-5872CFD08C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