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61616"/>
        <c:axId val="18155780"/>
      </c:barChart>
      <c:catAx>
        <c:axId val="902616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155780"/>
        <c:crosses val="autoZero"/>
        <c:auto val="1"/>
        <c:lblAlgn val="ctr"/>
        <c:lblOffset val="100"/>
        <c:noMultiLvlLbl val="0"/>
      </c:catAx>
      <c:valAx>
        <c:axId val="18155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616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EBFD-EEEC-4219-8936-BC3C882B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8D2D-3AE6-4593-A66F-591F83A2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9CC-42F1-4180-B97F-BBBED33D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ADF-764F-4826-8994-57A0F72F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4DE-A268-4B29-9990-58129430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1BD2-66C7-4BA4-A39D-465FB9BE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875C-4157-4388-8F7B-C848B8E2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5E4-9C22-4A33-990F-8668D02E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587-7E8D-438C-BC19-521A9CC7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3CE-BB86-4D34-A54E-89E2105A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3A35-4221-4BC8-A4CC-6AADFA8D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0535-0600-4A94-8559-9F6A1A50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EF868-E7AD-462C-B4A7-CA0F891178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