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18531"/>
        <c:axId val="68859672"/>
      </c:barChart>
      <c:catAx>
        <c:axId val="80318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59672"/>
        <c:crosses val="autoZero"/>
        <c:auto val="1"/>
        <c:lblAlgn val="ctr"/>
        <c:lblOffset val="100"/>
        <c:noMultiLvlLbl val="0"/>
      </c:catAx>
      <c:valAx>
        <c:axId val="68859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18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D0A-5046-41C1-B08A-B40B6886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C57-D19E-4270-B464-1DF07F88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86F-311F-47AC-923A-123016F4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98B-469D-4D70-B884-2148B2A3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6A8-E049-4804-8C7F-91A508D2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6126-A7E4-4DE8-ABD0-DD01425D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DC1-9542-4DF2-AAE9-BFC2B1F4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527-1434-4C84-9991-E1F8C6F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4CA-E5A5-417E-9A4A-98C0C74D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718-76E9-4F0D-9972-945A9D05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2A07-4B01-49F1-9069-A131E734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21F-5C18-4BB5-8E77-9AB6C91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B9539-91E8-43DE-8F99-A83126D22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