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CF2-A431-4BC1-BAE8-04D0C82A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196-A9E8-45D3-BD3C-91E1B589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9258-570B-44DD-AC51-79F692614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B5F9-4B80-4C83-BD16-3D90D0A80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4C9C-3D69-4FC5-97D6-9A54E87B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4F13-BFB2-407C-A5A5-F3FE9013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BB9F-D167-4076-A1AA-5A666D77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909F-A77B-4931-8461-06E8D935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1477-16C7-4A5A-8AD5-AFAB643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F364-0E7D-4425-9750-71B1B400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9B54-0E0B-4DE2-90A2-269B6E9D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626-2DA8-437C-9627-41BB85CB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0233-53E6-4661-B114-E27EB491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91C5-3ABF-4EAB-875D-BEC9C35E1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110-BB1D-494E-A7DB-268820B4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D0CB-8317-40FF-8565-2DB67885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658B-7123-498E-A04B-1F12430B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E649-5628-431E-BA39-FC6EE7359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0F541-A055-4236-A246-184DF0E3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FB598-0D01-4907-BD9C-50BE6B96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9789-E053-444B-BEE9-0BB7C0AE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7AE4-7FCA-4183-95BB-A2B81568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D87E-A668-4E2B-A3B1-B11C261C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1878-D287-4618-B034-18F373CB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A757E-AE34-47DA-B0A3-8439C1CB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558C-9C77-4772-9118-788E62E0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9BE49-156C-40EF-A484-74E49AEC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30846-AEF2-4296-B165-1DE63A50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87B5-D57A-4D73-BF05-A2CF54BE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9C275-4743-45E0-8E10-FE6A3256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6B9F-D89E-44A2-8FE6-F7CD7A5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C694-CB1D-4CD4-9F87-4595D4BE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B4E2-BA82-4C95-8A3A-9B502911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A0D-1AC4-402F-9423-B1298ADB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96C8-B482-48D6-B669-D7403F4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0ACE-009B-4BB7-9EBE-6A52C107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3AB2-3F21-4CE9-8002-08DC872DC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3708-CDCF-4DD6-8B81-B52E445C4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B162-762B-467F-8A5A-94629DBE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04:13:26Z</dcterms:created>
  <dc:creator>Gary Blue</dc:creator>
  <dc:description/>
  <dc:language>en-US</dc:language>
  <cp:lastModifiedBy>Gary Blue</cp:lastModifiedBy>
  <dcterms:modified xsi:type="dcterms:W3CDTF">2005-11-04T04:15:14Z</dcterms:modified>
  <cp:revision>1</cp:revision>
  <dc:subject/>
  <dc:title>Slide 1</dc:title>
</cp:coreProperties>
</file>