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F48BD-2AF7-4A3B-ADE6-927619A8193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 rot="16200000">
            <a:off x="114264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D918-7882-4A05-8C74-D32F7E76998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4BA84-802E-4F92-9823-2CCFF5F19C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New shape"/>
          <p:cNvSpPr/>
          <p:nvPr/>
        </p:nvSpPr>
        <p:spPr>
          <a:xfrm>
            <a:off x="25560" y="38160"/>
            <a:ext cx="1269720" cy="2539800"/>
          </a:xfrm>
          <a:custGeom>
            <a:avLst/>
            <a:gdLst/>
            <a:ahLst/>
            <a:rect l="l" t="t" r="r" b="b"/>
            <a:pathLst>
              <a:path w="2160000" h="4320000">
                <a:moveTo>
                  <a:pt x="0" y="4320000"/>
                </a:moveTo>
                <a:lnTo>
                  <a:pt x="0" y="1215000"/>
                </a:lnTo>
                <a:cubicBezTo>
                  <a:pt x="0" y="693092"/>
                  <a:pt x="423090" y="270000"/>
                  <a:pt x="944999" y="270000"/>
                </a:cubicBezTo>
                <a:lnTo>
                  <a:pt x="1620000" y="270000"/>
                </a:lnTo>
                <a:lnTo>
                  <a:pt x="1620000" y="0"/>
                </a:lnTo>
                <a:lnTo>
                  <a:pt x="2160000" y="540000"/>
                </a:lnTo>
                <a:lnTo>
                  <a:pt x="1620000" y="1080000"/>
                </a:lnTo>
                <a:lnTo>
                  <a:pt x="1620000" y="810000"/>
                </a:lnTo>
                <a:lnTo>
                  <a:pt x="945000" y="810000"/>
                </a:lnTo>
                <a:cubicBezTo>
                  <a:pt x="721324" y="810000"/>
                  <a:pt x="540000" y="991325"/>
                  <a:pt x="540000" y="1215000"/>
                </a:cubicBezTo>
                <a:lnTo>
                  <a:pt x="540000" y="43200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New shape"/>
          <p:cNvSpPr/>
          <p:nvPr/>
        </p:nvSpPr>
        <p:spPr>
          <a:xfrm>
            <a:off x="2540160" y="3809880"/>
            <a:ext cx="1269720" cy="25401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2C8-7F3A-46D2-986C-D20100F26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89F5-24BF-4A86-90C7-372A1852F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6DB5-DD0A-4AFA-99E3-34BB79159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1707-26DF-4A58-ADF9-4AEC91085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ECB6-7557-4172-B3D0-8DBDF5368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618D85-DC0C-4B0F-A014-50F0359A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8DE85-B974-403A-903F-DEC8B5909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CC2191-D20E-4696-9C8D-7869BCE0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43081B-C2F0-4102-A0B1-A4FE4D8EB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8B8C4C-25E6-49A8-B764-A27BFACB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B20348-52F4-4FBF-8492-613BB8E6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19264-58C8-4188-ADD0-F4E02C68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AFEE-95B3-47E2-8B6B-1917169A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D56B02-617A-4B91-A93A-2E8E208F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E7795A-1DF7-482D-BD99-CF1119ED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374967-2CFF-41DE-9C87-2273F6D6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F84AC7-4B08-43CE-BF5E-7E171B1C2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77DCB6-8A64-4F45-9029-2E970EBD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2CB9-4D49-49AC-B181-F3788755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7C97-106C-4C77-8D5F-D403885E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5186-C469-4B42-8F71-8EF1112B9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C73-0C6A-4927-878C-3858BFBB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23D6-EDC3-4CAF-9885-18A7048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18E4-3683-44B0-804A-2592BED3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9F7B-EADB-4506-A852-45E8027A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6C8A-108D-41BD-8642-181E790B90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1504-4815-4C4E-8F8A-DBEABACEF6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9FB60-F45B-41DB-92A4-71A6FEBE20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1" marL="253800" indent="-253800">
              <a:buClr>
                <a:srgbClr val="ffffff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2214-58FE-4D15-AE36-FEAB55A759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 rot="16200000">
            <a:off x="68544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268360" y="4724280"/>
            <a:ext cx="914400" cy="9144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4"/>
          <p:cNvSpPr/>
          <p:nvPr/>
        </p:nvSpPr>
        <p:spPr>
          <a:xfrm>
            <a:off x="7236000" y="5516640"/>
            <a:ext cx="298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2050920" y="476280"/>
            <a:ext cx="2355840" cy="685800"/>
            <a:chOff x="2050920" y="476280"/>
            <a:chExt cx="2355840" cy="685800"/>
          </a:xfrm>
        </p:grpSpPr>
        <p:sp>
          <p:nvSpPr>
            <p:cNvPr id="93" name="Flowchart: Decision 6"/>
            <p:cNvSpPr/>
            <p:nvPr/>
          </p:nvSpPr>
          <p:spPr>
            <a:xfrm>
              <a:off x="2050920" y="476280"/>
              <a:ext cx="914400" cy="6145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Rounded Rectangular Callout 7"/>
            <p:cNvSpPr/>
            <p:nvPr/>
          </p:nvSpPr>
          <p:spPr>
            <a:xfrm>
              <a:off x="3492360" y="547560"/>
              <a:ext cx="914400" cy="614520"/>
            </a:xfrm>
            <a:prstGeom prst="wedgeRoundRectCallout">
              <a:avLst>
                <a:gd name="adj1" fmla="val -20833"/>
                <a:gd name="adj2" fmla="val 62500"/>
                <a:gd name="adj3" fmla="val 16667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95" name=""/>
          <p:cNvGraphicFramePr/>
          <p:nvPr/>
        </p:nvGraphicFramePr>
        <p:xfrm>
          <a:off x="1523880" y="1397160"/>
          <a:ext cx="6096240" cy="3711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  <p:sp>
        <p:nvSpPr>
          <p:cNvPr id="96" name="Freeform 2"/>
          <p:cNvSpPr/>
          <p:nvPr/>
        </p:nvSpPr>
        <p:spPr>
          <a:xfrm>
            <a:off x="3895560" y="3363840"/>
            <a:ext cx="2451240" cy="2886120"/>
          </a:xfrm>
          <a:custGeom>
            <a:avLst/>
            <a:gdLst/>
            <a:ahLst/>
            <a:rect l="l" t="t" r="r" b="b"/>
            <a:pathLst>
              <a:path w="2452583" h="2885243">
                <a:moveTo>
                  <a:pt x="1067666" y="630314"/>
                </a:moveTo>
                <a:cubicBezTo>
                  <a:pt x="1075064" y="615518"/>
                  <a:pt x="1108966" y="559217"/>
                  <a:pt x="1129810" y="523782"/>
                </a:cubicBezTo>
                <a:cubicBezTo>
                  <a:pt x="1138559" y="508909"/>
                  <a:pt x="1144242" y="491595"/>
                  <a:pt x="1156443" y="479394"/>
                </a:cubicBezTo>
                <a:cubicBezTo>
                  <a:pt x="1183590" y="452247"/>
                  <a:pt x="1192808" y="447672"/>
                  <a:pt x="1209709" y="417250"/>
                </a:cubicBezTo>
                <a:cubicBezTo>
                  <a:pt x="1219349" y="399897"/>
                  <a:pt x="1226701" y="381337"/>
                  <a:pt x="1236342" y="363984"/>
                </a:cubicBezTo>
                <a:cubicBezTo>
                  <a:pt x="1241524" y="354657"/>
                  <a:pt x="1248804" y="346615"/>
                  <a:pt x="1254098" y="337351"/>
                </a:cubicBezTo>
                <a:cubicBezTo>
                  <a:pt x="1260664" y="325861"/>
                  <a:pt x="1263728" y="312287"/>
                  <a:pt x="1271853" y="301841"/>
                </a:cubicBezTo>
                <a:cubicBezTo>
                  <a:pt x="1284700" y="285324"/>
                  <a:pt x="1301445" y="272248"/>
                  <a:pt x="1316241" y="257452"/>
                </a:cubicBezTo>
                <a:cubicBezTo>
                  <a:pt x="1325119" y="248574"/>
                  <a:pt x="1332428" y="237783"/>
                  <a:pt x="1342874" y="230819"/>
                </a:cubicBezTo>
                <a:cubicBezTo>
                  <a:pt x="1351752" y="224901"/>
                  <a:pt x="1361477" y="220090"/>
                  <a:pt x="1369507" y="213064"/>
                </a:cubicBezTo>
                <a:cubicBezTo>
                  <a:pt x="1385255" y="199285"/>
                  <a:pt x="1399100" y="183472"/>
                  <a:pt x="1413896" y="168676"/>
                </a:cubicBezTo>
                <a:cubicBezTo>
                  <a:pt x="1419815" y="162757"/>
                  <a:pt x="1423531" y="152950"/>
                  <a:pt x="1431651" y="150920"/>
                </a:cubicBezTo>
                <a:lnTo>
                  <a:pt x="1467162" y="142043"/>
                </a:lnTo>
                <a:cubicBezTo>
                  <a:pt x="1474145" y="121094"/>
                  <a:pt x="1473484" y="109840"/>
                  <a:pt x="1493795" y="97654"/>
                </a:cubicBezTo>
                <a:cubicBezTo>
                  <a:pt x="1501819" y="92839"/>
                  <a:pt x="1512058" y="92962"/>
                  <a:pt x="1520428" y="88777"/>
                </a:cubicBezTo>
                <a:cubicBezTo>
                  <a:pt x="1641204" y="28390"/>
                  <a:pt x="1511371" y="83295"/>
                  <a:pt x="1591449" y="53266"/>
                </a:cubicBezTo>
                <a:cubicBezTo>
                  <a:pt x="1714341" y="7181"/>
                  <a:pt x="1576648" y="60666"/>
                  <a:pt x="1662470" y="17755"/>
                </a:cubicBezTo>
                <a:cubicBezTo>
                  <a:pt x="1684321" y="6829"/>
                  <a:pt x="1721919" y="3409"/>
                  <a:pt x="1742369" y="0"/>
                </a:cubicBezTo>
                <a:cubicBezTo>
                  <a:pt x="1869616" y="5918"/>
                  <a:pt x="1997750" y="1624"/>
                  <a:pt x="2124109" y="17755"/>
                </a:cubicBezTo>
                <a:cubicBezTo>
                  <a:pt x="2140714" y="19875"/>
                  <a:pt x="2146910" y="42372"/>
                  <a:pt x="2159620" y="53266"/>
                </a:cubicBezTo>
                <a:cubicBezTo>
                  <a:pt x="2216219" y="101779"/>
                  <a:pt x="2153546" y="29787"/>
                  <a:pt x="2221764" y="106532"/>
                </a:cubicBezTo>
                <a:cubicBezTo>
                  <a:pt x="2234352" y="120694"/>
                  <a:pt x="2243876" y="137522"/>
                  <a:pt x="2257274" y="150920"/>
                </a:cubicBezTo>
                <a:cubicBezTo>
                  <a:pt x="2311097" y="204743"/>
                  <a:pt x="2291478" y="166093"/>
                  <a:pt x="2337173" y="221942"/>
                </a:cubicBezTo>
                <a:cubicBezTo>
                  <a:pt x="2353293" y="241644"/>
                  <a:pt x="2367895" y="262609"/>
                  <a:pt x="2381562" y="284085"/>
                </a:cubicBezTo>
                <a:cubicBezTo>
                  <a:pt x="2393841" y="303381"/>
                  <a:pt x="2409577" y="343997"/>
                  <a:pt x="2417072" y="363984"/>
                </a:cubicBezTo>
                <a:cubicBezTo>
                  <a:pt x="2420358" y="372746"/>
                  <a:pt x="2423920" y="381482"/>
                  <a:pt x="2425950" y="390617"/>
                </a:cubicBezTo>
                <a:cubicBezTo>
                  <a:pt x="2429855" y="408189"/>
                  <a:pt x="2431608" y="426173"/>
                  <a:pt x="2434828" y="443883"/>
                </a:cubicBezTo>
                <a:cubicBezTo>
                  <a:pt x="2452134" y="539067"/>
                  <a:pt x="2435573" y="431349"/>
                  <a:pt x="2452583" y="550415"/>
                </a:cubicBezTo>
                <a:cubicBezTo>
                  <a:pt x="2449624" y="636233"/>
                  <a:pt x="2454356" y="722662"/>
                  <a:pt x="2443705" y="807868"/>
                </a:cubicBezTo>
                <a:cubicBezTo>
                  <a:pt x="2442148" y="820326"/>
                  <a:pt x="2427116" y="826968"/>
                  <a:pt x="2417072" y="834501"/>
                </a:cubicBezTo>
                <a:cubicBezTo>
                  <a:pt x="2403268" y="844854"/>
                  <a:pt x="2387041" y="851563"/>
                  <a:pt x="2372684" y="861134"/>
                </a:cubicBezTo>
                <a:cubicBezTo>
                  <a:pt x="2360373" y="869341"/>
                  <a:pt x="2350107" y="880581"/>
                  <a:pt x="2337173" y="887767"/>
                </a:cubicBezTo>
                <a:cubicBezTo>
                  <a:pt x="2298211" y="909412"/>
                  <a:pt x="2281121" y="904077"/>
                  <a:pt x="2239519" y="923278"/>
                </a:cubicBezTo>
                <a:cubicBezTo>
                  <a:pt x="2138072" y="970100"/>
                  <a:pt x="2167752" y="993635"/>
                  <a:pt x="2017577" y="1038687"/>
                </a:cubicBezTo>
                <a:cubicBezTo>
                  <a:pt x="1987985" y="1047565"/>
                  <a:pt x="1957728" y="1054472"/>
                  <a:pt x="1928800" y="1065320"/>
                </a:cubicBezTo>
                <a:cubicBezTo>
                  <a:pt x="1910213" y="1072290"/>
                  <a:pt x="1894190" y="1085169"/>
                  <a:pt x="1875534" y="1091953"/>
                </a:cubicBezTo>
                <a:cubicBezTo>
                  <a:pt x="1861353" y="1097110"/>
                  <a:pt x="1845703" y="1096861"/>
                  <a:pt x="1831146" y="1100831"/>
                </a:cubicBezTo>
                <a:cubicBezTo>
                  <a:pt x="1813090" y="1105755"/>
                  <a:pt x="1795469" y="1112190"/>
                  <a:pt x="1777880" y="1118586"/>
                </a:cubicBezTo>
                <a:cubicBezTo>
                  <a:pt x="1762904" y="1124032"/>
                  <a:pt x="1747999" y="1129748"/>
                  <a:pt x="1733492" y="1136342"/>
                </a:cubicBezTo>
                <a:cubicBezTo>
                  <a:pt x="1715420" y="1144557"/>
                  <a:pt x="1698727" y="1155780"/>
                  <a:pt x="1680226" y="1162975"/>
                </a:cubicBezTo>
                <a:cubicBezTo>
                  <a:pt x="1645340" y="1176542"/>
                  <a:pt x="1573694" y="1198485"/>
                  <a:pt x="1573694" y="1198485"/>
                </a:cubicBezTo>
                <a:cubicBezTo>
                  <a:pt x="1564816" y="1204404"/>
                  <a:pt x="1556325" y="1210947"/>
                  <a:pt x="1547061" y="1216241"/>
                </a:cubicBezTo>
                <a:cubicBezTo>
                  <a:pt x="1535571" y="1222807"/>
                  <a:pt x="1521717" y="1225524"/>
                  <a:pt x="1511550" y="1233996"/>
                </a:cubicBezTo>
                <a:cubicBezTo>
                  <a:pt x="1503353" y="1240826"/>
                  <a:pt x="1501340" y="1253084"/>
                  <a:pt x="1493795" y="1260629"/>
                </a:cubicBezTo>
                <a:cubicBezTo>
                  <a:pt x="1471551" y="1282873"/>
                  <a:pt x="1445017" y="1300530"/>
                  <a:pt x="1422773" y="1322773"/>
                </a:cubicBezTo>
                <a:cubicBezTo>
                  <a:pt x="1356701" y="1388844"/>
                  <a:pt x="1432275" y="1334192"/>
                  <a:pt x="1369507" y="1376039"/>
                </a:cubicBezTo>
                <a:cubicBezTo>
                  <a:pt x="1366548" y="1384917"/>
                  <a:pt x="1364316" y="1394071"/>
                  <a:pt x="1360630" y="1402672"/>
                </a:cubicBezTo>
                <a:cubicBezTo>
                  <a:pt x="1343137" y="1443489"/>
                  <a:pt x="1338890" y="1436668"/>
                  <a:pt x="1325119" y="1482571"/>
                </a:cubicBezTo>
                <a:cubicBezTo>
                  <a:pt x="1320783" y="1497024"/>
                  <a:pt x="1319200" y="1512163"/>
                  <a:pt x="1316241" y="1526959"/>
                </a:cubicBezTo>
                <a:cubicBezTo>
                  <a:pt x="1319249" y="1599138"/>
                  <a:pt x="1330244" y="1918149"/>
                  <a:pt x="1342874" y="1979720"/>
                </a:cubicBezTo>
                <a:cubicBezTo>
                  <a:pt x="1350852" y="2018612"/>
                  <a:pt x="1379350" y="2050275"/>
                  <a:pt x="1396140" y="2086252"/>
                </a:cubicBezTo>
                <a:cubicBezTo>
                  <a:pt x="1400097" y="2094732"/>
                  <a:pt x="1400203" y="2104861"/>
                  <a:pt x="1405018" y="2112885"/>
                </a:cubicBezTo>
                <a:cubicBezTo>
                  <a:pt x="1409324" y="2120062"/>
                  <a:pt x="1417415" y="2124211"/>
                  <a:pt x="1422773" y="2130641"/>
                </a:cubicBezTo>
                <a:cubicBezTo>
                  <a:pt x="1432245" y="2142008"/>
                  <a:pt x="1439983" y="2154744"/>
                  <a:pt x="1449406" y="2166151"/>
                </a:cubicBezTo>
                <a:cubicBezTo>
                  <a:pt x="1516509" y="2247381"/>
                  <a:pt x="1576860" y="2326632"/>
                  <a:pt x="1653593" y="2396971"/>
                </a:cubicBezTo>
                <a:cubicBezTo>
                  <a:pt x="1906529" y="2628829"/>
                  <a:pt x="1715656" y="2441279"/>
                  <a:pt x="1884412" y="2610035"/>
                </a:cubicBezTo>
                <a:cubicBezTo>
                  <a:pt x="1899208" y="2624831"/>
                  <a:pt x="1917193" y="2637013"/>
                  <a:pt x="1928800" y="2654423"/>
                </a:cubicBezTo>
                <a:cubicBezTo>
                  <a:pt x="1940637" y="2672178"/>
                  <a:pt x="1949222" y="2692600"/>
                  <a:pt x="1964311" y="2707689"/>
                </a:cubicBezTo>
                <a:cubicBezTo>
                  <a:pt x="1979400" y="2722778"/>
                  <a:pt x="2000733" y="2730099"/>
                  <a:pt x="2017577" y="2743200"/>
                </a:cubicBezTo>
                <a:cubicBezTo>
                  <a:pt x="2027487" y="2750908"/>
                  <a:pt x="2033887" y="2762687"/>
                  <a:pt x="2044210" y="2769833"/>
                </a:cubicBezTo>
                <a:cubicBezTo>
                  <a:pt x="2072584" y="2789477"/>
                  <a:pt x="2132987" y="2823099"/>
                  <a:pt x="2132987" y="2823099"/>
                </a:cubicBezTo>
                <a:cubicBezTo>
                  <a:pt x="2089418" y="2832435"/>
                  <a:pt x="2000675" y="2854447"/>
                  <a:pt x="1946556" y="2858610"/>
                </a:cubicBezTo>
                <a:cubicBezTo>
                  <a:pt x="1819201" y="2868406"/>
                  <a:pt x="1617377" y="2872036"/>
                  <a:pt x="1502672" y="2876365"/>
                </a:cubicBezTo>
                <a:lnTo>
                  <a:pt x="1307364" y="2885243"/>
                </a:lnTo>
                <a:lnTo>
                  <a:pt x="756948" y="2867487"/>
                </a:lnTo>
                <a:cubicBezTo>
                  <a:pt x="712324" y="2865362"/>
                  <a:pt x="571451" y="2853368"/>
                  <a:pt x="499496" y="2840854"/>
                </a:cubicBezTo>
                <a:cubicBezTo>
                  <a:pt x="452036" y="2832600"/>
                  <a:pt x="357453" y="2814221"/>
                  <a:pt x="357453" y="2814221"/>
                </a:cubicBezTo>
                <a:cubicBezTo>
                  <a:pt x="339698" y="2799425"/>
                  <a:pt x="322235" y="2784271"/>
                  <a:pt x="304187" y="2769833"/>
                </a:cubicBezTo>
                <a:cubicBezTo>
                  <a:pt x="292633" y="2760590"/>
                  <a:pt x="279674" y="2753098"/>
                  <a:pt x="268676" y="2743200"/>
                </a:cubicBezTo>
                <a:cubicBezTo>
                  <a:pt x="250012" y="2726402"/>
                  <a:pt x="233990" y="2706825"/>
                  <a:pt x="215410" y="2689934"/>
                </a:cubicBezTo>
                <a:cubicBezTo>
                  <a:pt x="201389" y="2677188"/>
                  <a:pt x="185106" y="2667099"/>
                  <a:pt x="171022" y="2654423"/>
                </a:cubicBezTo>
                <a:cubicBezTo>
                  <a:pt x="147520" y="2633271"/>
                  <a:pt x="108658" y="2593201"/>
                  <a:pt x="91123" y="2565646"/>
                </a:cubicBezTo>
                <a:cubicBezTo>
                  <a:pt x="66621" y="2527143"/>
                  <a:pt x="60867" y="2501511"/>
                  <a:pt x="46734" y="2459114"/>
                </a:cubicBezTo>
                <a:cubicBezTo>
                  <a:pt x="25437" y="2331332"/>
                  <a:pt x="38869" y="2387197"/>
                  <a:pt x="11224" y="2290439"/>
                </a:cubicBezTo>
                <a:cubicBezTo>
                  <a:pt x="-4263" y="2073632"/>
                  <a:pt x="-3213" y="2144756"/>
                  <a:pt x="11224" y="1819922"/>
                </a:cubicBezTo>
                <a:cubicBezTo>
                  <a:pt x="11994" y="1802601"/>
                  <a:pt x="25446" y="1741699"/>
                  <a:pt x="28979" y="1722268"/>
                </a:cubicBezTo>
                <a:cubicBezTo>
                  <a:pt x="32199" y="1704558"/>
                  <a:pt x="31706" y="1685919"/>
                  <a:pt x="37857" y="1669002"/>
                </a:cubicBezTo>
                <a:cubicBezTo>
                  <a:pt x="43754" y="1652786"/>
                  <a:pt x="55612" y="1639409"/>
                  <a:pt x="64490" y="1624613"/>
                </a:cubicBezTo>
                <a:cubicBezTo>
                  <a:pt x="70408" y="1595021"/>
                  <a:pt x="72095" y="1564257"/>
                  <a:pt x="82245" y="1535837"/>
                </a:cubicBezTo>
                <a:cubicBezTo>
                  <a:pt x="87221" y="1521903"/>
                  <a:pt x="102869" y="1513847"/>
                  <a:pt x="108878" y="1500326"/>
                </a:cubicBezTo>
                <a:cubicBezTo>
                  <a:pt x="115006" y="1486537"/>
                  <a:pt x="114797" y="1470734"/>
                  <a:pt x="117756" y="1455938"/>
                </a:cubicBezTo>
                <a:cubicBezTo>
                  <a:pt x="134938" y="1284109"/>
                  <a:pt x="111987" y="1430780"/>
                  <a:pt x="144389" y="1322773"/>
                </a:cubicBezTo>
                <a:cubicBezTo>
                  <a:pt x="148725" y="1308320"/>
                  <a:pt x="149873" y="1293087"/>
                  <a:pt x="153266" y="1278384"/>
                </a:cubicBezTo>
                <a:cubicBezTo>
                  <a:pt x="158753" y="1254607"/>
                  <a:pt x="164136" y="1230774"/>
                  <a:pt x="171022" y="1207363"/>
                </a:cubicBezTo>
                <a:cubicBezTo>
                  <a:pt x="178944" y="1180430"/>
                  <a:pt x="190847" y="1154700"/>
                  <a:pt x="197655" y="1127464"/>
                </a:cubicBezTo>
                <a:cubicBezTo>
                  <a:pt x="209741" y="1079114"/>
                  <a:pt x="201075" y="1102866"/>
                  <a:pt x="224288" y="1056443"/>
                </a:cubicBezTo>
                <a:cubicBezTo>
                  <a:pt x="227247" y="1038688"/>
                  <a:pt x="226846" y="1020031"/>
                  <a:pt x="233166" y="1003177"/>
                </a:cubicBezTo>
                <a:cubicBezTo>
                  <a:pt x="236105" y="995340"/>
                  <a:pt x="247813" y="993192"/>
                  <a:pt x="250921" y="985421"/>
                </a:cubicBezTo>
                <a:cubicBezTo>
                  <a:pt x="267868" y="943052"/>
                  <a:pt x="256700" y="907845"/>
                  <a:pt x="295309" y="878889"/>
                </a:cubicBezTo>
                <a:cubicBezTo>
                  <a:pt x="308058" y="869327"/>
                  <a:pt x="324777" y="866729"/>
                  <a:pt x="339698" y="861134"/>
                </a:cubicBezTo>
                <a:cubicBezTo>
                  <a:pt x="359043" y="853880"/>
                  <a:pt x="381845" y="847378"/>
                  <a:pt x="401841" y="843379"/>
                </a:cubicBezTo>
                <a:cubicBezTo>
                  <a:pt x="449835" y="833780"/>
                  <a:pt x="449376" y="837996"/>
                  <a:pt x="490618" y="825623"/>
                </a:cubicBezTo>
                <a:cubicBezTo>
                  <a:pt x="508544" y="820245"/>
                  <a:pt x="526295" y="814264"/>
                  <a:pt x="543884" y="807868"/>
                </a:cubicBezTo>
                <a:cubicBezTo>
                  <a:pt x="558860" y="802422"/>
                  <a:pt x="572733" y="793645"/>
                  <a:pt x="588272" y="790113"/>
                </a:cubicBezTo>
                <a:cubicBezTo>
                  <a:pt x="638086" y="778792"/>
                  <a:pt x="689011" y="773039"/>
                  <a:pt x="739193" y="763480"/>
                </a:cubicBezTo>
                <a:cubicBezTo>
                  <a:pt x="804879" y="750968"/>
                  <a:pt x="760516" y="747878"/>
                  <a:pt x="863480" y="736846"/>
                </a:cubicBezTo>
                <a:cubicBezTo>
                  <a:pt x="916525" y="731163"/>
                  <a:pt x="970012" y="730928"/>
                  <a:pt x="1023278" y="727969"/>
                </a:cubicBezTo>
                <a:cubicBezTo>
                  <a:pt x="1049911" y="736847"/>
                  <a:pt x="1108351" y="727009"/>
                  <a:pt x="1103177" y="754602"/>
                </a:cubicBezTo>
                <a:cubicBezTo>
                  <a:pt x="1085136" y="850821"/>
                  <a:pt x="1010683" y="847096"/>
                  <a:pt x="961134" y="896645"/>
                </a:cubicBezTo>
                <a:cubicBezTo>
                  <a:pt x="934265" y="923514"/>
                  <a:pt x="880370" y="1005774"/>
                  <a:pt x="872358" y="1029810"/>
                </a:cubicBezTo>
                <a:cubicBezTo>
                  <a:pt x="864675" y="1052857"/>
                  <a:pt x="856338" y="1079605"/>
                  <a:pt x="845725" y="1100831"/>
                </a:cubicBezTo>
                <a:cubicBezTo>
                  <a:pt x="840953" y="1110374"/>
                  <a:pt x="833888" y="1118586"/>
                  <a:pt x="827969" y="1127464"/>
                </a:cubicBezTo>
                <a:cubicBezTo>
                  <a:pt x="825010" y="1151138"/>
                  <a:pt x="819992" y="1174644"/>
                  <a:pt x="819092" y="1198485"/>
                </a:cubicBezTo>
                <a:cubicBezTo>
                  <a:pt x="814069" y="1331588"/>
                  <a:pt x="810214" y="1464782"/>
                  <a:pt x="810214" y="1597980"/>
                </a:cubicBezTo>
                <a:cubicBezTo>
                  <a:pt x="810214" y="1630666"/>
                  <a:pt x="814470" y="1663278"/>
                  <a:pt x="819092" y="1695635"/>
                </a:cubicBezTo>
                <a:cubicBezTo>
                  <a:pt x="835977" y="1813834"/>
                  <a:pt x="828142" y="1749505"/>
                  <a:pt x="845725" y="1811045"/>
                </a:cubicBezTo>
                <a:cubicBezTo>
                  <a:pt x="849077" y="1822776"/>
                  <a:pt x="849146" y="1835642"/>
                  <a:pt x="854602" y="1846555"/>
                </a:cubicBezTo>
                <a:cubicBezTo>
                  <a:pt x="864145" y="1865641"/>
                  <a:pt x="869411" y="1894645"/>
                  <a:pt x="890113" y="1899821"/>
                </a:cubicBezTo>
                <a:lnTo>
                  <a:pt x="925624" y="1908699"/>
                </a:lnTo>
                <a:cubicBezTo>
                  <a:pt x="943379" y="1905740"/>
                  <a:pt x="961813" y="1905513"/>
                  <a:pt x="978890" y="1899821"/>
                </a:cubicBezTo>
                <a:cubicBezTo>
                  <a:pt x="986681" y="1897224"/>
                  <a:pt x="1040189" y="1856066"/>
                  <a:pt x="1041033" y="1855433"/>
                </a:cubicBezTo>
                <a:cubicBezTo>
                  <a:pt x="1043992" y="1618695"/>
                  <a:pt x="1049911" y="1381975"/>
                  <a:pt x="1049911" y="1145219"/>
                </a:cubicBezTo>
                <a:cubicBezTo>
                  <a:pt x="1049911" y="1097779"/>
                  <a:pt x="1041033" y="1050617"/>
                  <a:pt x="1041033" y="1003177"/>
                </a:cubicBezTo>
                <a:cubicBezTo>
                  <a:pt x="1041033" y="979319"/>
                  <a:pt x="1036229" y="951700"/>
                  <a:pt x="1049911" y="932155"/>
                </a:cubicBezTo>
                <a:cubicBezTo>
                  <a:pt x="1060644" y="916822"/>
                  <a:pt x="1087604" y="924781"/>
                  <a:pt x="1103177" y="914400"/>
                </a:cubicBezTo>
                <a:cubicBezTo>
                  <a:pt x="1122953" y="901216"/>
                  <a:pt x="1133109" y="896961"/>
                  <a:pt x="1147566" y="878889"/>
                </a:cubicBezTo>
                <a:cubicBezTo>
                  <a:pt x="1154231" y="870557"/>
                  <a:pt x="1156443" y="858174"/>
                  <a:pt x="1165321" y="852256"/>
                </a:cubicBezTo>
                <a:cubicBezTo>
                  <a:pt x="1175473" y="845488"/>
                  <a:pt x="1189100" y="846731"/>
                  <a:pt x="1200832" y="843379"/>
                </a:cubicBezTo>
                <a:cubicBezTo>
                  <a:pt x="1230386" y="834935"/>
                  <a:pt x="1229670" y="831174"/>
                  <a:pt x="1262975" y="825623"/>
                </a:cubicBezTo>
                <a:cubicBezTo>
                  <a:pt x="1304256" y="818743"/>
                  <a:pt x="1387263" y="807868"/>
                  <a:pt x="1387263" y="807868"/>
                </a:cubicBezTo>
                <a:cubicBezTo>
                  <a:pt x="1396141" y="804909"/>
                  <a:pt x="1407279" y="805607"/>
                  <a:pt x="1413896" y="798990"/>
                </a:cubicBezTo>
                <a:cubicBezTo>
                  <a:pt x="1452239" y="760647"/>
                  <a:pt x="1426277" y="668974"/>
                  <a:pt x="1422773" y="639192"/>
                </a:cubicBezTo>
                <a:cubicBezTo>
                  <a:pt x="1421680" y="629898"/>
                  <a:pt x="1421511" y="617998"/>
                  <a:pt x="1413896" y="612559"/>
                </a:cubicBezTo>
                <a:cubicBezTo>
                  <a:pt x="1396376" y="600045"/>
                  <a:pt x="1338621" y="590402"/>
                  <a:pt x="1316241" y="585926"/>
                </a:cubicBezTo>
                <a:cubicBezTo>
                  <a:pt x="1262975" y="588885"/>
                  <a:pt x="1209551" y="589746"/>
                  <a:pt x="1156443" y="594804"/>
                </a:cubicBezTo>
                <a:cubicBezTo>
                  <a:pt x="1147127" y="595691"/>
                  <a:pt x="1138888" y="601411"/>
                  <a:pt x="1129810" y="603681"/>
                </a:cubicBezTo>
                <a:cubicBezTo>
                  <a:pt x="1115171" y="607341"/>
                  <a:pt x="1100060" y="608899"/>
                  <a:pt x="1085422" y="612559"/>
                </a:cubicBezTo>
                <a:cubicBezTo>
                  <a:pt x="1076344" y="614829"/>
                  <a:pt x="1060268" y="645110"/>
                  <a:pt x="1067666" y="630314"/>
                </a:cubicBez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 rot="16200000">
            <a:off x="468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643280" y="1484280"/>
            <a:ext cx="1465560" cy="1440000"/>
          </a:xfrm>
          <a:prstGeom prst="star5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940360" y="3213000"/>
            <a:ext cx="144000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39640" y="2924280"/>
            <a:ext cx="3868920" cy="2901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364000" y="4869000"/>
            <a:ext cx="3095640" cy="12240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ooter Placeholder 4" descr="Chart"/>
          <p:cNvPicPr/>
          <p:nvPr/>
        </p:nvPicPr>
        <p:blipFill>
          <a:blip r:embed="rId1"/>
          <a:stretch/>
        </p:blipFill>
        <p:spPr>
          <a:xfrm>
            <a:off x="763560" y="981000"/>
            <a:ext cx="3237120" cy="2185920"/>
          </a:xfrm>
          <a:prstGeom prst="rect">
            <a:avLst/>
          </a:prstGeom>
          <a:ln w="0">
            <a:noFill/>
          </a:ln>
        </p:spPr>
      </p:pic>
      <p:grpSp>
        <p:nvGrpSpPr>
          <p:cNvPr id="103" name=""/>
          <p:cNvGrpSpPr/>
          <p:nvPr/>
        </p:nvGrpSpPr>
        <p:grpSpPr>
          <a:xfrm>
            <a:off x="5569200" y="1774080"/>
            <a:ext cx="2186640" cy="1894320"/>
            <a:chOff x="5569200" y="1774080"/>
            <a:chExt cx="2186640" cy="1894320"/>
          </a:xfrm>
        </p:grpSpPr>
        <p:sp>
          <p:nvSpPr>
            <p:cNvPr id="104" name="_s18440"/>
            <p:cNvSpPr/>
            <p:nvPr/>
          </p:nvSpPr>
          <p:spPr>
            <a:xfrm flipV="1">
              <a:off x="6297840" y="1773720"/>
              <a:ext cx="729360" cy="631800"/>
            </a:xfrm>
            <a:custGeom>
              <a:avLst/>
              <a:gdLst>
                <a:gd name="textAreaLeft" fmla="*/ 261720 w 729360"/>
                <a:gd name="textAreaRight" fmla="*/ 467640 w 729360"/>
                <a:gd name="textAreaTop" fmla="*/ 226800 h 631800"/>
                <a:gd name="textAreaBottom" fmla="*/ 405000 h 63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_s18441"/>
            <p:cNvSpPr/>
            <p:nvPr/>
          </p:nvSpPr>
          <p:spPr>
            <a:xfrm flipV="1">
              <a:off x="5934240" y="2406240"/>
              <a:ext cx="1456920" cy="630720"/>
            </a:xfrm>
            <a:custGeom>
              <a:avLst/>
              <a:gdLst>
                <a:gd name="textAreaLeft" fmla="*/ 320400 w 1456920"/>
                <a:gd name="textAreaRight" fmla="*/ 1136520 w 1456920"/>
                <a:gd name="textAreaTop" fmla="*/ 138600 h 630720"/>
                <a:gd name="textAreaBottom" fmla="*/ 492120 h 63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_s18442"/>
            <p:cNvSpPr/>
            <p:nvPr/>
          </p:nvSpPr>
          <p:spPr>
            <a:xfrm flipV="1">
              <a:off x="5569200" y="3036960"/>
              <a:ext cx="2186640" cy="631440"/>
            </a:xfrm>
            <a:custGeom>
              <a:avLst/>
              <a:gdLst>
                <a:gd name="textAreaLeft" fmla="*/ 379440 w 2186640"/>
                <a:gd name="textAreaRight" fmla="*/ 1807200 w 2186640"/>
                <a:gd name="textAreaTop" fmla="*/ 109440 h 631440"/>
                <a:gd name="textAreaBottom" fmla="*/ 522000 h 63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7999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4f81bd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7" name="Footer Placeholder 4"/>
          <p:cNvGraphicFramePr/>
          <p:nvPr/>
        </p:nvGraphicFramePr>
        <p:xfrm>
          <a:off x="1547640" y="4149720"/>
          <a:ext cx="180036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8" name="Footer Placeholder 4" descr="OleObject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7640" y="4149720"/>
                    <a:ext cx="18003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Footer Placeholder 4" descr="Video"/>
          <p:cNvPicPr/>
          <p:nvPr/>
        </p:nvPicPr>
        <p:blipFill>
          <a:blip r:embed="rId4"/>
          <a:stretch/>
        </p:blipFill>
        <p:spPr>
          <a:xfrm>
            <a:off x="5148360" y="4149720"/>
            <a:ext cx="3047760" cy="1714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AudioFrame"/>
          <p:cNvPicPr/>
          <p:nvPr/>
        </p:nvPicPr>
        <p:blipFill>
          <a:blip r:embed="rId5"/>
          <a:stretch/>
        </p:blipFill>
        <p:spPr>
          <a:xfrm>
            <a:off x="1332000" y="6021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childTnLst>
                  <p:par>
                    <p:cTn id="3" nodeType="clickEffect" fill="hold"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childTnLst>
                  <p:par>
                    <p:cTn id="8" nodeType="clickEffect" fill="hold">
                      <p:childTnLst>
                        <p:par>
                          <p:cTn id="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4T13:29:19Z</dcterms:created>
  <dc:creator>Denis</dc:creator>
  <dc:description/>
  <dc:language>en-US</dc:language>
  <cp:lastModifiedBy>Пользователь Windows</cp:lastModifiedBy>
  <dcterms:modified xsi:type="dcterms:W3CDTF">2018-03-30T10:12:20Z</dcterms:modified>
  <cp:revision>11</cp:revision>
  <dc:subject/>
  <dc:title>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testProperty">
    <vt:lpwstr>testPropertyValue</vt:lpwstr>
  </property>
</Properties>
</file>