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12C7-ACF1-4610-9971-CC18E77BA02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D58CF-4011-473B-BA0F-806B5DDBE9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547143-A421-4990-AD22-D3C5C41D41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33568C-B098-408F-88C6-DD9078A305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F4F2-F94B-49CE-997A-FE93C98F8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51B0-1246-46C9-A9EF-AD26D698A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351D1-BD43-40FD-8CCC-5A1046638A5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25E9EF-B1E8-46A6-B1E7-4B06618C84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7B9213-BD8D-43F8-9F4D-B37D7F8DB7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EEEC72-9CAC-4EC5-8567-177E48F7DF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73735-06AD-48BA-AFD0-A833616C2A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F1B255-155B-418E-9C5A-5A4767C82A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739C27-37C6-4530-A782-29C6C37FA8D0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st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898989"/>
                </a:solidFill>
                <a:latin typeface="Calibri"/>
              </a:rPr>
              <a:t>This is a sample word document created for the purpose of testing OpenXML::Properti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8-16T00:00:00Z</dcterms:created>
  <dc:creator/>
  <dc:description/>
  <dc:language>en-US</dc:language>
  <cp:lastModifiedBy>Ananth Venugopal</cp:lastModifiedBy>
  <dcterms:modified xsi:type="dcterms:W3CDTF">2012-11-29T05:28:37Z</dcterms:modified>
  <cp:revision>2</cp:revision>
  <dc:subject/>
  <dc:title>Test </dc:title>
</cp:coreProperties>
</file>