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679251"/>
        <c:axId val="70740387"/>
      </c:barChart>
      <c:catAx>
        <c:axId val="296792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40387"/>
        <c:crosses val="autoZero"/>
        <c:auto val="1"/>
        <c:lblAlgn val="ctr"/>
        <c:lblOffset val="100"/>
        <c:noMultiLvlLbl val="0"/>
      </c:catAx>
      <c:valAx>
        <c:axId val="707403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792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9F1F-13EF-4C4B-9DE6-1BAA88F9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E9F4-2A01-4F5F-9754-75188220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6D0D-4DC2-4527-AD73-35CA5164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E527-E616-47E0-BB0D-F59F3ACB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6E4B-21AE-410A-9E73-FD4DE72E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01F9-0C87-4F24-BC3F-349FE0F1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F136-683D-4800-AC43-6239A0D5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F711-CF01-4F72-A52C-9914E776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E07A-8A6A-4406-B464-64CEB7CA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FEE8-B03F-48BC-814F-D2086801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B7F4-D37E-4255-9CFF-A4E88EA2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7FFE-001E-49F4-8C68-D8F96E63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1FA98-1F4A-4254-81EE-7DCF867AB1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