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39027"/>
        <c:axId val="49176012"/>
      </c:barChart>
      <c:catAx>
        <c:axId val="92439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76012"/>
        <c:crosses val="autoZero"/>
        <c:auto val="1"/>
        <c:lblAlgn val="ctr"/>
        <c:lblOffset val="100"/>
        <c:noMultiLvlLbl val="0"/>
      </c:catAx>
      <c:valAx>
        <c:axId val="49176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39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071-BB44-4C08-B4F0-07B5782E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063-F56B-453D-BB15-D46B990A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3C4-EF4D-4DA1-8B93-2DC4CA7B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8C6-0D08-491B-B4FE-861D6476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EBB-15EF-4664-81D3-31867CB5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F8C-29F2-41E4-97C2-FB5321A3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B82-8348-408B-890D-C9E9A887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268-3C5B-4145-830E-DA756C09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C56-4A5D-4C11-9F23-003F8D11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8DA-2CA9-45A9-9452-9C5AC249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5B5-F568-4138-AFCA-91F2F256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4B8-0AA3-40F9-9B21-EBA744A6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4876E-86F7-4E9F-88CC-5CD024E377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