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49808"/>
        <c:axId val="3367579"/>
      </c:barChart>
      <c:catAx>
        <c:axId val="99249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7579"/>
        <c:crosses val="autoZero"/>
        <c:auto val="1"/>
        <c:lblAlgn val="ctr"/>
        <c:lblOffset val="100"/>
        <c:noMultiLvlLbl val="0"/>
      </c:catAx>
      <c:valAx>
        <c:axId val="3367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49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552-0BC8-4F65-9030-D1793CED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90D-28FE-485A-8DE7-2C0F18D0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23E-DFCB-449C-BDEF-D678253D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6A8-3E98-47C3-BF08-E8835B39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58D-E089-4A65-A4F0-992B2F23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7CC-5DCB-4DA5-8A9E-F1AD4F16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A7F-9D1D-43E2-9E9D-3A8983B3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354-3852-4F3B-97E4-7418361E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075-65B3-4FEF-A43C-B3BEE1B3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D35-FAEE-482E-B492-9FAAE8EC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F46-AA84-4753-89D5-32270F05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C01-FF2E-4F28-8530-F31192E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AF0B6-7082-4353-8970-A5131DD015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