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13016"/>
        <c:axId val="60814248"/>
      </c:barChart>
      <c:catAx>
        <c:axId val="414130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14248"/>
        <c:crosses val="autoZero"/>
        <c:auto val="1"/>
        <c:lblAlgn val="ctr"/>
        <c:lblOffset val="100"/>
        <c:noMultiLvlLbl val="0"/>
      </c:catAx>
      <c:valAx>
        <c:axId val="608142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130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951-3943-45AB-B14E-8C9A7A3F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8E1-E5CB-4782-B0B4-9D92886D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6FB-6A75-4D50-B167-792517BA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D399-FF7F-4B99-8FE3-C0F369B9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8F5-8A2C-415F-B3C6-EB2DEC77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EC3-FE71-4C9E-B8AF-9524FDCC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36B-FA42-49CE-9DDC-83334C68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4EA2-60AA-463F-BBF1-2252D74E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1A3-8CA1-4D9D-A56B-9BB132CF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64DB-9216-429A-8350-79D4D175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8B8-3F97-4E18-8BC8-A3657B5F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172-41CB-4D49-89FD-D076E1E7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ADB2D-32D0-40B5-BA06-E4FE7E0B49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