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39438"/>
        <c:axId val="39090877"/>
      </c:barChart>
      <c:catAx>
        <c:axId val="30839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90877"/>
        <c:crosses val="autoZero"/>
        <c:auto val="1"/>
        <c:lblAlgn val="ctr"/>
        <c:lblOffset val="100"/>
        <c:noMultiLvlLbl val="0"/>
      </c:catAx>
      <c:valAx>
        <c:axId val="39090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39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495-2D82-4A25-AF1D-0C1D69AD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354-7EF6-47EB-BE8B-AF5E8608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B34-C836-45F5-94B5-ED68B880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120-6A2A-4317-8E9D-47204547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850-D45F-4D32-B5A8-0D208188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9CA-375C-4E2B-8190-7E822AD1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885-233E-4BBB-BE4D-12AC4923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763-CC65-4DE4-96DF-1C15690E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733-86DE-4F65-99F9-BE5B0EF2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9E0-F293-447E-88C4-86100C0B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FC9-2F45-404C-A451-B5D79C38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DF54-F6D6-4CAC-95B3-9438A7DE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1DD4A-6C3D-407C-B33F-C39C73B828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