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89053"/>
        <c:axId val="41849426"/>
      </c:barChart>
      <c:catAx>
        <c:axId val="84089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49426"/>
        <c:crosses val="autoZero"/>
        <c:auto val="1"/>
        <c:lblAlgn val="ctr"/>
        <c:lblOffset val="100"/>
        <c:noMultiLvlLbl val="0"/>
      </c:catAx>
      <c:valAx>
        <c:axId val="41849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89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A10-4D2D-4B82-9EB9-9D1C935C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954-3E00-4A2C-9AE4-59BB681B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3DE-95DC-4774-8617-43DAC026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77A-D8FF-45A5-B50D-1E34E9E3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892-1006-4A5C-9ED5-AB07BFD7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396-B698-42FE-9DEE-4577E116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1FF-B56F-4D0B-8434-3768DE84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89B-814B-4632-B15F-D519C24A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483-EF00-4BB6-BDC3-668B9D86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BE6-5CC7-4792-B840-BFEF7D29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232-6B6D-46E0-A31F-EDD971AE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905-B9FF-40DE-B678-B44120A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703AF-B584-4569-A911-5431ABADA3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