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50652"/>
        <c:axId val="15208316"/>
      </c:barChart>
      <c:catAx>
        <c:axId val="10650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08316"/>
        <c:crosses val="autoZero"/>
        <c:auto val="1"/>
        <c:lblAlgn val="ctr"/>
        <c:lblOffset val="100"/>
        <c:noMultiLvlLbl val="0"/>
      </c:catAx>
      <c:valAx>
        <c:axId val="15208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50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109-7655-4DC6-8010-FBA4E772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504-58D0-4EC7-830E-B1FA562F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619-EB25-4FEA-9494-990712E2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E20-D84C-407C-92BD-3F99F076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3B3-EA8F-4B8C-966D-5B64C11D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BD2-C2F9-4240-8A67-7D4EDF3F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297-8501-4A4A-A708-F0FC2D32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DC3-A691-47F2-9489-BF1C8607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7D4-C6A4-47DD-B02E-5DB6DC36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0CF-066F-4A45-8D2F-7F3DD4A4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C02-73B0-4EF7-9F65-FAC4A822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841-885E-49CC-BF63-4D422967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D07EB-E1A1-4998-AA14-763D43C172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