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10223"/>
        <c:axId val="22742476"/>
      </c:barChart>
      <c:catAx>
        <c:axId val="10110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42476"/>
        <c:crosses val="autoZero"/>
        <c:auto val="1"/>
        <c:lblAlgn val="ctr"/>
        <c:lblOffset val="100"/>
        <c:noMultiLvlLbl val="0"/>
      </c:catAx>
      <c:valAx>
        <c:axId val="22742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10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6DCE-26F5-4F9F-A15D-C898902C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1BC-66B8-4A85-BC9F-3202D0A9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47D-E6D1-4C34-AA14-705EA5D4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00B-EEEF-46B6-B9C4-30AECED5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830-BABF-4AE4-8CFE-69B872DB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6B6-E246-43A7-A885-D6F34801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DB3-4960-4DC4-9B50-85203587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1F0-3A3C-40E8-8BF3-106D44DD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062-79A0-49A8-9CBD-AB8E88B2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ED3-449E-4D1A-AD04-FFE9033B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AB8-4357-4341-A8D8-771B1DA3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94F-8EB1-41F2-8406-636DB811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E6B51-FF52-4C5A-9EC8-968C3802B5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