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590558"/>
        <c:axId val="70250333"/>
      </c:barChart>
      <c:catAx>
        <c:axId val="315905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250333"/>
        <c:crosses val="autoZero"/>
        <c:auto val="1"/>
        <c:lblAlgn val="ctr"/>
        <c:lblOffset val="100"/>
        <c:noMultiLvlLbl val="0"/>
      </c:catAx>
      <c:valAx>
        <c:axId val="702503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5905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50C0-E810-4E64-B17A-3D287959E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0E19-CB3E-4BFF-9E9E-D32EED2E9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EC6B-E15D-44D1-AAB7-B65D2BA2C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7BF5-9966-491D-ABFC-2B3EBA539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C199-6BAB-4358-8519-2BAE1695B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56E0-95A6-4859-88AD-3D8D3FCD5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9811-8BD4-4727-A402-364D86DCB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C0E4-6F5D-48A5-A357-81D8B0398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0167-595D-4092-A2AB-CD0474C23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28CF-DB12-4E8A-A8D7-337C25F7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C01E-9BD6-4D19-A023-9A2C6C9E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4B9E-5CD2-4D4A-B42C-9B962D61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F73ED6-5DC8-48BC-AFDF-A1D27B2DE76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