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68315"/>
        <c:axId val="64666915"/>
      </c:barChart>
      <c:catAx>
        <c:axId val="66568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66915"/>
        <c:crosses val="autoZero"/>
        <c:auto val="1"/>
        <c:lblAlgn val="ctr"/>
        <c:lblOffset val="100"/>
        <c:noMultiLvlLbl val="0"/>
      </c:catAx>
      <c:valAx>
        <c:axId val="64666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68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723-B333-46B0-904E-F76BB996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4BC-886E-4571-B51B-D2B19A88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BAF-CC17-4E54-8A25-B77E7D64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6FA-FAAE-46B3-BA62-6C26E4D8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7B87-E731-4797-B973-5B36DE80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DD4-B340-4290-8FA1-6B9FD60E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6955-88D9-42DA-B6C9-2600118B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ACE-B0BE-4F43-918F-EC92DD70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95E-3AE5-4010-9D14-C5CE644A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115-D76F-49B0-BF28-40783F7C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474-EA76-45A2-B4D5-A71D746D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FD61-35F9-4CA9-9065-59CE615E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2CEC9-245A-4BC6-9A68-F7428B7DD8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