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2804"/>
        <c:axId val="37300127"/>
      </c:barChart>
      <c:catAx>
        <c:axId val="5652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00127"/>
        <c:crosses val="autoZero"/>
        <c:auto val="1"/>
        <c:lblAlgn val="ctr"/>
        <c:lblOffset val="100"/>
        <c:noMultiLvlLbl val="0"/>
      </c:catAx>
      <c:valAx>
        <c:axId val="373001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2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7179-E37C-45DA-A670-C541FBCA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6164-4521-4306-8AE3-1835E9AC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0868-8A2B-4EA2-923D-F2DDFB19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B20-FBAE-417C-9906-416AB84B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592-EAE8-4A21-8BAF-CD548382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86F-D4E6-47F8-870E-EAAD0BA38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9811-A851-4404-87D1-D5EF789DF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6EDC-9191-48CF-AA7D-6F64F4BE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B6E-A59F-4C42-9420-D170B5AE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17C5-A267-442F-A286-36BC5FEC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FFBF-64D9-4AF8-9C38-4FD2FC8F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DB9-2661-4CAE-A796-92198DF6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02CDCA-C5FD-4294-A67A-45A2B652C1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