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701584"/>
        <c:axId val="64705647"/>
      </c:barChart>
      <c:catAx>
        <c:axId val="14701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05647"/>
        <c:crosses val="autoZero"/>
        <c:auto val="1"/>
        <c:lblAlgn val="ctr"/>
        <c:lblOffset val="100"/>
        <c:noMultiLvlLbl val="0"/>
      </c:catAx>
      <c:valAx>
        <c:axId val="64705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01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0D16-5CF6-45D4-B104-1C69395D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A09-6C65-4A3E-A1C7-910F5422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32E8-A05A-4668-B28D-CC24DFF4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3E3C-6487-4D7A-88C0-63170A0D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FBE-3CED-47AF-9022-F53C7732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AF29-2B8F-473F-ADDF-D6A62F55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B2FC-DBB1-4096-BE40-F46B44C5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FA8-BA50-47AA-9530-467CDBCE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F4D-B70F-45CA-8806-D14D0B5E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ADD0-B64A-488B-A659-3FD9A354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5F6-5E91-471C-A8D6-DA2F6312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4AD-BB85-4091-9322-4A7270AD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37433-05E3-4ABD-A966-D39F7EBFC8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