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379963"/>
        <c:axId val="78056254"/>
      </c:barChart>
      <c:catAx>
        <c:axId val="673799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056254"/>
        <c:crosses val="autoZero"/>
        <c:auto val="1"/>
        <c:lblAlgn val="ctr"/>
        <c:lblOffset val="100"/>
        <c:noMultiLvlLbl val="0"/>
      </c:catAx>
      <c:valAx>
        <c:axId val="780562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799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C84D-6F73-4F50-88FA-03D93DF49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0535-9DEE-4F84-BB70-8D33B3A0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B480-5EC7-4CDE-94D6-7D3EC0DD9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185E-7ADF-461D-882E-AB6D033F6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4BB1-D9FC-4F75-B876-5F1904B8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4AAA-17CC-4899-B3FA-A4A7807A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2B7E-1BA0-445D-A024-353312AD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06BC-8A44-47FD-A50D-EEE7AAC9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06E8-8599-42E0-B7AD-2411405A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6396-015F-4CB2-84F3-A174CAA2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7188-F0D3-418C-9382-C6123BC8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B4D1-3CB0-4027-B200-B670B1F6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5CAB9-BED8-4E73-9A7F-4CDE564EE4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