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83056"/>
        <c:axId val="55195989"/>
      </c:barChart>
      <c:catAx>
        <c:axId val="53783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95989"/>
        <c:crosses val="autoZero"/>
        <c:auto val="1"/>
        <c:lblAlgn val="ctr"/>
        <c:lblOffset val="100"/>
        <c:noMultiLvlLbl val="0"/>
      </c:catAx>
      <c:valAx>
        <c:axId val="55195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83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00B-1080-4837-93F7-3DD7C3F7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345-C402-4914-9DA7-0F134DF6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0A2-29F3-48CE-8300-21AB7297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762-F35E-4993-8E66-714D07A9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C59-9C20-4EC7-9001-93F44023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517-E3DB-483D-8CE6-58FA217A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F67D-84FF-4F5F-AC0B-EE95071E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82B-48FF-41B9-A641-5E575899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286-8367-4877-A5E4-E57E3C19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C1A-C5F7-49A5-A1D1-41992F7D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D8E-DC90-49FF-A820-969BE8E1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E11-F18E-4CA2-9728-27C32D63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AADEC-0D60-483A-90ED-144BDC5890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