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48727"/>
        <c:axId val="76466155"/>
      </c:barChart>
      <c:catAx>
        <c:axId val="61148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6155"/>
        <c:crosses val="autoZero"/>
        <c:auto val="1"/>
        <c:lblAlgn val="ctr"/>
        <c:lblOffset val="100"/>
        <c:noMultiLvlLbl val="0"/>
      </c:catAx>
      <c:valAx>
        <c:axId val="76466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8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24C-8639-4A8A-9DB9-7C7C3D71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E1A-41DB-4EC3-973C-D619DB4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D59-30B4-4BB2-AAA4-D0DDA606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5E2-0E3F-4C37-BC13-6AC55DD8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2BF-5CA6-4F4C-8712-2A589C5B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00E-9665-45D6-B4E6-6096647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AED-CDD2-4AD8-9D8E-6AE808EA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5C7-8302-4D2E-BF1E-B019CB8C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4BC-065B-4345-9879-1D371F67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F66-0E3A-4920-B3E1-5B1CCA2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971-0603-45E6-BF34-D942750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19E-F6AB-4F66-A348-1464DF1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B0DD1-6692-4A66-9706-1C3CDAD43B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