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28805"/>
        <c:axId val="66885782"/>
      </c:barChart>
      <c:catAx>
        <c:axId val="99128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85782"/>
        <c:crosses val="autoZero"/>
        <c:auto val="1"/>
        <c:lblAlgn val="ctr"/>
        <c:lblOffset val="100"/>
        <c:noMultiLvlLbl val="0"/>
      </c:catAx>
      <c:valAx>
        <c:axId val="66885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28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AD4-CBBB-46E7-9AD4-16D7B4B4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B56-EE97-4987-9886-32ADA1E7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C06-66BF-47FD-AE90-B7115D0F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0B6-B6BA-4B70-ADEB-B8B03A47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973-FD3B-4EF1-A0F8-345E8A24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94A-461E-4617-A69C-56B6C73E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24B-EBB2-48B6-859C-9664811C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191-9AE5-4CC7-AC43-77FFC351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714-00DC-42FB-AA31-6E492F4E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912-A316-4A15-A10F-6CCD778E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C91-BE9D-400C-A26D-1E96CDD1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5FB-0F73-473A-AE25-4032324C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DE4FD-AC87-4646-9DF7-2C6DD82D4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