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35281"/>
        <c:axId val="59894216"/>
      </c:barChart>
      <c:catAx>
        <c:axId val="49935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94216"/>
        <c:crosses val="autoZero"/>
        <c:auto val="1"/>
        <c:lblAlgn val="ctr"/>
        <c:lblOffset val="100"/>
        <c:noMultiLvlLbl val="0"/>
      </c:catAx>
      <c:valAx>
        <c:axId val="59894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35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CDB-867C-4E00-86FB-EC941B07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CBC-A4B7-47B5-8CEE-811A6B09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158-A423-4C69-AB92-509B99AC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277-C82C-4299-8995-75E77ED1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F8D-0A38-4025-85D7-BAE31AE5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92E-9CBE-4A6F-8EA0-879F2A53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268-B283-4F3C-95CE-FF3BC432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7D6-2C60-4611-A2F5-384ACC05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C3F-0EE2-4E67-A9F6-C7859CFE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C6A-F838-4D14-8ED1-A127DF4C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F5D-A1F7-45E4-A7C9-A61987CC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2C2-3CD6-4B8A-AE48-2444C98D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F4541-96BB-4657-A0AF-C524A17791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