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29717"/>
        <c:axId val="63029046"/>
      </c:barChart>
      <c:catAx>
        <c:axId val="22829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29046"/>
        <c:crosses val="autoZero"/>
        <c:auto val="1"/>
        <c:lblAlgn val="ctr"/>
        <c:lblOffset val="100"/>
        <c:noMultiLvlLbl val="0"/>
      </c:catAx>
      <c:valAx>
        <c:axId val="63029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29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324-35FF-439E-B468-C3A6FFC7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FE2-ABB6-4D27-BB73-86A60C33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ECE-A4CB-40B0-A6BB-E8DA3CB0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336-2CD4-4AD6-BA0A-E09923E4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4B0-D8DC-4910-9BF7-5AE278CE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598-AC6A-468B-8ACD-24006C7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16C-BE75-4417-9134-6768225E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DE1-7909-47E4-A087-9E5D1439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199-80CC-4EEC-9973-028C9129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E6F-11B9-491D-9B31-BB1F8E36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BAF-44C0-45C8-AF5F-33317EA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8BE-72C3-4030-A88C-66E78242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FD025-DA8B-481C-ACA2-12F61395ED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