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46751"/>
        <c:axId val="60998517"/>
      </c:barChart>
      <c:catAx>
        <c:axId val="16546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98517"/>
        <c:crosses val="autoZero"/>
        <c:auto val="1"/>
        <c:lblAlgn val="ctr"/>
        <c:lblOffset val="100"/>
        <c:noMultiLvlLbl val="0"/>
      </c:catAx>
      <c:valAx>
        <c:axId val="60998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46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F61-143D-4987-84DC-E6C4BAD6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BC9-84AA-47D4-ABC8-DD29AE37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D77-8F67-4F6B-A892-048459BE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626-157F-44A3-9208-B27E88FC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48B5-8E9A-4A1A-9BF3-E4862645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071-FC5D-4AE3-9810-3359868B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A50-2D11-4702-8840-FEF28D62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C50-64F8-4D5F-A31C-DCC30724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FAB-8157-40F3-AF97-F5EB4A96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F8A-4417-4D8A-8F40-64FE686D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0B6-4AA6-465A-96D9-C44FEA09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E22-4F94-4A37-B1EE-03659E35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185AC-E97A-4ACE-9A21-4E4997B1A6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