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19916"/>
        <c:axId val="11592244"/>
      </c:barChart>
      <c:catAx>
        <c:axId val="46519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92244"/>
        <c:crosses val="autoZero"/>
        <c:auto val="1"/>
        <c:lblAlgn val="ctr"/>
        <c:lblOffset val="100"/>
        <c:noMultiLvlLbl val="0"/>
      </c:catAx>
      <c:valAx>
        <c:axId val="115922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19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49E-907B-4261-885F-04F10F75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B0F2-7645-4FA4-B972-3DCF7E9F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B547-58C4-4FCD-8B2B-72047EE2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5330-136B-4931-A6BF-99BCD58F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976E-CB3A-4DD5-BE97-2A9E4509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C89-E00A-4D9E-8163-55C97A18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F76C-7146-4EF4-A16E-24D90E57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8A7-D021-42EA-8886-66C06E94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3C47-5360-4832-A71C-D805805B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42F-7B47-4693-AEE8-CE0AEDFD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9DF-3D56-4742-8971-C5875515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4E83-40A5-48F3-89A3-06957DC7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F6AF7-EF29-492E-A508-77D30BAE6B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