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276525"/>
        <c:axId val="55546512"/>
      </c:barChart>
      <c:catAx>
        <c:axId val="822765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546512"/>
        <c:crosses val="autoZero"/>
        <c:auto val="1"/>
        <c:lblAlgn val="ctr"/>
        <c:lblOffset val="100"/>
        <c:noMultiLvlLbl val="0"/>
      </c:catAx>
      <c:valAx>
        <c:axId val="555465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2765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43B8-5B3C-4BEE-B8B7-36D6285BE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B5F1-0EE9-4219-B617-A1E65727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F1AF-40A1-452C-90FA-8980C3A2F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A459-0700-4E4D-8DC0-7DF17C45C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E036-B6AD-4003-8AC5-9C3860D4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76DA-23AA-4790-8C22-8761062C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DA8D-D9A4-4E0E-8952-9EDB776F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FD26-7C4B-4983-A1E7-631DFF5C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BC77-F3B2-4577-8434-E20A87B2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8676-8386-425A-A2D0-52AB2F8A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3D4F-CF26-4BED-849B-94C32C41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C8E7-AA2C-4054-8A1C-7437A06F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BE87E-424E-43AF-9B10-1D4A98A1CC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