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44527"/>
        <c:axId val="92831410"/>
      </c:barChart>
      <c:catAx>
        <c:axId val="54544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31410"/>
        <c:crosses val="autoZero"/>
        <c:auto val="1"/>
        <c:lblAlgn val="ctr"/>
        <c:lblOffset val="100"/>
        <c:noMultiLvlLbl val="0"/>
      </c:catAx>
      <c:valAx>
        <c:axId val="92831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44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C81-96F5-4BFB-8B1A-E5B7D139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720-CF43-450F-9769-A1A31B39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EC5-DB65-49BC-AE7A-BC6E6F0C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A7D-84F3-4CDE-9334-D32991A3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19B-A23A-444A-A7AC-C9248A71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106-E423-4EDE-BE68-124E7C2B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512-DB05-47D6-8A7B-F3A89767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FC6-E8EA-46C6-B431-19A6341B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745-9983-4988-8785-7BC33847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7DB-6ABE-4E2E-8983-F6B44F3E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EF5-0755-44C7-BA59-A847EF5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D8D-002F-4201-A79F-C6C5061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36FEE-BA66-4F07-AEE4-FADB441E6E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