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ED0499-AB27-4DCC-9C13-94D0726510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6E5C36-A800-42CA-8B64-F9F24DEFD0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F4569A-5366-44DF-AA23-FF39FBA456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2DE2BC-28D0-42BD-8A44-D829C3A5C4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697504E-0C5D-4385-84E4-A088D42AB7D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667B66-1BC4-47F0-9C2E-F7A626D26C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FC100E-62CA-4765-94CD-7127E0817D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157760-F92E-4DEA-8A21-BCAFEA1FDA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293CC1-AFA9-4DCE-9299-A262450AE6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BA4258-B5FC-46E1-867D-B674C91119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972C72-CA2A-4540-9794-9F40B3D653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74CA8C-E1A7-41FE-86EE-8DC1FBAE34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C3F23D-A1E8-4D7F-B8D8-A3BE05EFD9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6D2C76-BB9C-41E9-BEC5-5B8CF7D00B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C6DC8B-9D51-466B-B923-A0C73D6283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77A7419-86DE-41FB-88AE-70DC4230252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0C021FE-9E42-4A34-97A1-24AB49D2C25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8E0E27-61F6-4D44-869A-1E40D73617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2AC958-A30C-47E6-8AFA-3C74478B72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CA129E-B3F5-4819-99D5-7ADB13E623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D750F3-7F23-467D-9660-BAB338A0BD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41119A-B3D8-480D-94C0-D542E85352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9145C8-E3FD-4EFC-BF2E-3B24AAE037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F169EC-C906-4AA9-B540-E661277E61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A134DF-A7FA-48BE-9350-C04060E7AEA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8DE7A3-453A-42A6-8858-B04F5809968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F405292-BE08-462E-A7B7-BDB6CE17BBD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E5CE1B2-C527-441F-BB98-96216960B59B}"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DFCE4C-1A59-4D60-9368-36B63C65AD9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866E35-E0D7-48DF-A164-ED97FBEC623D}"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32F661-82DF-46CD-A70E-B46F175C995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CE70BE-C19D-4E84-8D26-D6327BDF599D}"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3DE938-3AFF-422E-9432-FD8BD75BFDC7}"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70B679-B532-4826-A964-B005D68DF9CF}"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7F8388-8AC4-41FA-B01A-BA89BF119A74}"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E4EE54-5889-4C5D-8C17-88522C356EE9}"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F0D1CE-5307-4E59-B71F-6227191A3645}"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A41432-EDB8-4693-BEB7-F447A57F1E34}"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D035F9-1C1C-4F72-90BB-BAB9EEE45399}"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7AF861-4078-4A80-8FD6-946797ADB217}"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6E8E55-3AAA-429A-9ACD-F465CAA64A01}"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115FB6-DD62-4E5D-B6B1-F4992F135B40}"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216233-E094-4C68-9C54-F7669433D3C9}"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97D4ED-E650-4629-ADD5-EF026C2B13C6}"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BB7A67-3D8A-45AE-9489-D40AC60E6C1D}"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91D703-3A3B-4DE0-A481-680D10E4C094}"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4F083F-0A31-4D93-BAD5-77B6A6768A62}"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6CE935-4E51-4C9F-8DBD-DFD09D1AB5A6}"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5BA1F5-9FA8-4461-83BA-D0CB36D0046F}"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5FB28B-7E13-44F7-97DD-0409B19A30F1}"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DB0B2F-DFFA-4DF0-A78A-DC5EEF93D03B}"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290669-62AA-4464-B9BB-8E254E22DAAF}"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2DAB79-77A1-4243-8C0C-FBF1C6A6E43C}"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84824F4-12C1-437D-8C39-8EBA5A91E215}"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587B9B-7615-43CF-B45C-D739E16B500A}"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AECA0B-C43F-49EE-9F71-0C400F80D041}"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920FDD-D8E8-4C39-A95C-17842006EF9A}"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6BAB0F-79F6-4EB7-8AEA-A24910298873}"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7479DA-F3B2-4193-875F-AB8F754828B9}"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4B7A88-0F22-49CE-9E72-AE4F4048B653}"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621310-D918-424A-9122-D33B24FC94BB}"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FF158F-F042-4BC7-B4F5-0A9E7CDDB1E5}"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1073A0-B1CA-478F-9162-6DDA6DF56297}"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FE5491-46D1-4BDF-8E9E-76CE2DB17DC6}"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44E2F8-A384-4317-8B23-39F86F251CCA}"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CADCD8-B507-4B2F-9515-48D30B9CDC0C}"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7E56D0-2ED4-4839-AC1B-99F31C437B5A}"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ACD890-4A5D-41CE-9C0F-F53B62617657}"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920627-9935-4624-8D37-3D3261258379}"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4B2401-B380-48DB-8375-45B0FE0D5E49}"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68D95B-FC8B-4B71-A25A-0C23C7EC0908}"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3D4516-4AB0-4507-BF27-D02D3064E595}"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105E8C-D179-4D1E-9489-A26684B2ED08}"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231B5B-B518-4A39-8BE0-4A6B784F6721}"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D16ED66-3DBF-40B9-895E-E45F1EC844A4}"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1ADD97-D6D3-4B5C-912A-C00C2AC28B5E}"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F90AAF-4B93-4E98-ACF3-41740813C8ED}"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AE3BD2A-1150-480C-AE1A-5D2E00D3304B}"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54B389-AD7C-4758-9D23-F295A98F27FC}"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15E326-A39C-4109-8075-1456BB965E80}"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86DBFB-97C2-4C2D-ADD5-FA0A068D26C5}"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E89668-9362-4C24-A4E3-9BAA02629F34}"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264771-E89C-4D49-801A-2C4F55C5024A}"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76151C-C396-4D8C-A347-4F3709DE5CF6}"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4AC95F-11CA-4137-BAE8-4BCE35F468A6}"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B0FB955-1C65-452D-871C-8EB4AEBC2FF7}"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ABBEDF-38D1-4711-BC7A-12C6D566F701}"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7E30B5-03DF-484A-A739-902E07ACA9D9}"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BFB672-BAA8-49B1-B61E-04F5AFBFFEDC}"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73CDB2-32EA-4B41-BA2F-B51C078D0FB9}"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D1232C-62BF-4DEB-8130-5DA3E28BA1B3}"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716FBD0-22F2-45F6-A8A4-B60D15CF1A35}"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CA632A-84E0-43FF-86F1-7C402B60DF29}"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5A9518-669E-4418-ABCA-06A5EBA09B50}"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2C2C13-64DE-459F-94D8-D072249DC3DF}"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AC6D2C-DDFE-4A88-A30A-1E154DEB6CD6}"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7A88C44-B63C-4561-AEBD-13A6990D0FEE}"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72F903-E73E-4D6C-AA3F-CAE7035A5239}"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E077E7-F07F-4293-9DEA-DC9C1122FA8D}"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A0EA98-26D4-4748-82FB-40096E8459CE}"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443CA1-E21B-45EC-97EF-EA1E04ED64FB}"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BC2FDB-9583-4338-82E3-86D7A0074E42}"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CB8E91-A143-4ACB-92E5-13AC4AADDEB3}"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D05F9D2-9FAD-4BF9-AF77-A03AE4E30044}"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0DE8CF-6FD8-4638-8F75-8DB9CD3511B7}"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891D5E-EB92-4DE5-B3B5-2FDFFDFCC6AF}"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D9D537-A4A6-4E27-ABF4-7327CEDBDA86}"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2BB8E1E-1AFB-444E-AC05-9BB766E4BA76}"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45473D-6EBD-456D-806D-05E479B2B419}"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B552D39-BDE6-4F90-A0F7-1019B7E0E0C4}"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6EB0BD-1735-4F40-B770-BA2A656877F9}"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BA3767-175D-4579-846E-47145075C91A}"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13D6F4-05BB-4448-A146-7AF5B3A1AE7B}"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313793-70F8-4AA0-9869-E356B110C622}"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F24DF1-C11F-43AA-A7E2-63E91DEEDBD0}"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6D828D-1870-4A1B-86BA-3A0BF9856E3D}"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1FBD1F-514C-4B1E-BDD4-CCAA5EE6076C}"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73AD1B-275F-49EB-B34D-CC0EA62EDF3D}"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89A75B-CA7F-4FF8-9406-44D8B5180DFB}"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C4E4BA-4D5B-4905-A958-6447397E649D}"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7C679C-722C-46E3-AE65-85441CAAA3E3}"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787752-B001-42A7-8679-684BCE44BE82}"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0050C0-BFE0-42AE-81B8-593ED0F0E95E}"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2740DF-B78B-48D2-A33B-C5B639C9FF15}"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A3779E-E73F-4DF2-94E6-F1A3111DD44A}"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0570D9D-631D-454C-9457-809BFC4F3EFE}"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6C2B04-757E-452B-8B6F-928A8535ADBC}"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775017-F008-46C1-B330-B91C9A264440}"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32BC80-01D1-4CD7-A822-07B5C45AA1A9}"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1AB1D7-5F15-453A-94BB-E3EBC2F6DBB8}"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A93CA5-14C1-4DC2-A32B-644706810BD5}"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BEC57B-9318-4744-ACE6-F3D3B055BAF7}"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441A16-ECEE-4F19-AD6C-9B35E6686CB6}"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E5E56E-B873-4A1D-9FC2-09486075ACAD}"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848886-77F9-4BF0-937E-06F8755F399E}"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E6DD50-BC41-49AB-8A77-DABBCB2FC392}"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6421E9-AE5A-4F87-A56A-F3CFE8ED57C0}"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D7BACC-40D9-4D6C-AB8F-B7BFC0878FA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9A344B-68F4-47F0-A0A5-2732186E4676}"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E0C208-6053-4BA5-8F0A-D30458DC0651}"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5D57B6-05E2-49AC-A688-C94E9D9DE904}"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692F28-425B-47F3-BEDD-80647D539BA5}"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9DF15B-3BBC-43D3-B938-163F27BCFBB8}"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9D9749-D6DE-4B3E-96FA-64041F5809EE}"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026419-362A-4805-8CE2-07B030D10CA0}"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93A20A-1D6E-452F-8BC8-4C53A8CE1604}"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0263CD-D1CC-4EFE-A291-04CD69CC05FD}"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46F798-3F97-4844-9AB9-24EA039B05B0}"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423A28-C511-4531-93B7-C6488E8FCEA7}"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D28C5B-AD07-4380-9136-C3E8E57BFEB0}"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849617-8723-4B26-9E17-636B0FF8E13F}"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B7735B-02DA-4E38-AE7E-579FEEDFE498}"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7859CC-1576-4BCE-9C34-56CD1B096E37}"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1108E85-1966-4CF7-BDDA-673C3F518145}"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A774A9-71B7-48EC-8BF1-A0A6CD3820A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95515B-13C2-464F-AAFC-AE13A6F7FDA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B5FD4A-1146-4554-BB89-C0B5A311AE7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E84605-1531-4193-9923-AC1E414A567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DE1E54-459F-4A38-A372-398E1AADFDB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5D5E1A-E2AB-477D-BDD1-C5408BB39BC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8470751-B654-4119-8EDB-2653B3C1C00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3008D8-494B-4B83-AA55-FDDDD55CF1E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A25B7B-890A-46C1-91A6-1A652E50429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4126BC-1EB5-483E-B3D4-3D20B8D2941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CC752A-F9F6-4F2E-8413-AEEDDBEFDEB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CAF6E3-E85E-4ADB-B2A2-1DBC3E879E1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AB0953-8096-46BD-BD7F-7C3D2CB2CEB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1D9FE2-B803-480A-B8E3-B8A06D4932E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847732-ACB6-4F8B-A17D-FA4BFE09247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0419D8-1170-4378-A0EC-181FFF9C720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27D7A5-3156-40A3-B0C2-1349D6CB575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F6EF64-2B15-42BE-BB56-F0E5DA4393E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8B389D-CA48-4086-B75F-1AD42CACC80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3E5F26-ECA4-42C1-8788-F474E24F319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8FFEB0-46AA-4041-B3AF-9E2773CE3FE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6B6466-9E67-4719-80A9-209453691F4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039DDE-FCA8-4D32-B81E-9CB5BE07017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809AA4-8024-4316-B640-CD0CAAC0E21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7C3122-50B5-41F8-B839-6BDDE6DA3AE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5EFBE9-99DD-408E-AA46-28737FCEB03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3BF85A-E0F7-41CE-92F7-CA08E18B3B8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A90B23-CE7C-483D-9902-FBCA5C8E458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F7BADC-C414-466D-9F79-75E6AD94F77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80E278-A4E7-499C-A4B8-9647C8AFBAA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454034-7372-437C-89A8-F1080772DF2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FFF7CC-678B-4E1B-A417-69E99ECD057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F8BD4A-3F60-4B8D-9809-35333D44357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E46C2C-AE92-452E-9801-45D3E6EB938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59BC90-996D-4F25-86D1-803EDCCBFB3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17FC87-5DC0-47D6-A93F-E1957AFE8D1A}"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8600F0-0D57-45D3-855B-360C199044B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C27E1A-C063-45A7-B608-0CB02F88C7EC}"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B20396-F1CE-46C3-90B4-0179FB85989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7FD933-E65C-4009-A3A4-41C5C9309BD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61BDBD-FEA2-4FF9-8212-A73FA46052F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D6CFCB-D859-434A-9D0F-00F627DEF65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E5D80B-6EEA-4173-ABF3-DD01DA14B73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D47FDD-FEDD-4610-BFD0-B5687A71161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7AC05E-709F-4D7F-848C-A489ABE88108}"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ADF204-ED8C-41EE-8138-6E3CC7FEE1E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FD2357-5676-4054-96CD-14306FFAF65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28AB4C4-BE22-493A-86FB-962574DF840C}"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3909CE-8F0A-4A76-AE5A-7A6E02C1F91E}"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2E77D3-CAEB-4077-A022-533D0E1A065F}"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2156ED-E750-469F-AAD8-B8C8954EFE4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C6476A-B8AA-451F-95A0-81DDD5A1E4C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923BF6-F223-4D80-BB78-749B279469F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ED141B-149D-404D-976A-585FB7E51D7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598FC6-2C67-438A-AE9E-2036828E71C0}"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F35F8E-645D-4045-95FA-6F59C5987FD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51A96C6-2E21-4908-9566-149A4C619D0B}"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51FACE-CF50-4F4F-8BFA-49B7B56A98D5}"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B0B3AA-7ED3-49FD-8DD3-7BD43662C02B}"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0757A9-3243-4221-81EC-679CCDB5349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B00AA5-E2D9-480E-945C-56356EA5A925}"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BA39D2-71EB-4BB9-9229-F8EBF13B39F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01BD11-F34F-4FB7-B1A7-432BF4D310DE}"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B60A83-B79C-4655-AA76-E4978C417635}"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59C8DD-3115-4232-9534-80DCFFF58A33}"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502068-9D24-42A5-B36C-BDC1ABBF8635}"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AA5086-7E8E-4E8E-A06D-CE29E29D41F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89CDF5-9AC7-4551-891A-ACB9D229FB88}"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4DE335-27D0-4F60-AD9B-604514A11E7F}"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0FB729-BB89-4BB3-84C5-B8744916F424}"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4042C3-519D-4260-8D37-7FBE8830F6B5}"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A821AF3-06DF-441F-9CAB-C417C95429A9}"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EC34A6-DBD3-4EE2-B8B3-4D73847F6C34}"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A9337B-5D4A-4B35-AAB6-16BA642B8EA4}"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D7D64D-50E4-4C77-82B2-8D8ED6912881}"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902CBA-EAA0-49EC-8798-11312FE82CCB}"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74F9C8-DC21-4022-BBF5-2EA848E3B749}"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480083-26F1-4CCA-A29A-C5DBE76A269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F7E82B-4930-4897-91AA-5A2331F5E8F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37DE87-05F8-40FB-A4AC-748AFB8B1C55}"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5C806E-3F6A-4FCB-BD1B-960D9D3AB85D}"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5FE06E-E76B-4533-B744-C4184844422A}"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75D6FE-1386-4D3D-900A-803E109A9BA9}"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24F609-2753-44DA-980A-E7060A506238}"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BBAF93-F39C-4711-8AB8-DEA55E900DBF}"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