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32508"/>
        <c:axId val="17578213"/>
      </c:barChart>
      <c:catAx>
        <c:axId val="52832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78213"/>
        <c:crosses val="autoZero"/>
        <c:auto val="1"/>
        <c:lblAlgn val="ctr"/>
        <c:lblOffset val="100"/>
        <c:noMultiLvlLbl val="0"/>
      </c:catAx>
      <c:valAx>
        <c:axId val="175782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32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2F6F-C8D7-4BAE-84A4-F6F07B61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F8CB-0582-487B-8E39-096FF488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68C9-3423-4939-A833-F19A8631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593-4B6B-4D01-AB42-92028E67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0D6A-AB91-4638-93E3-D2B14684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B06D-4D9A-4955-B2A5-0EED9C8F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BD5-2C95-4EC0-840F-033CC1E6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9A51-49FF-4683-98DC-3E1BBABB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981-55D9-468F-A838-6CCA2EC5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6493-84FA-408C-A24B-80B3215C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A305-6EB7-46F8-AEED-8913DC32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5153-FC1C-4EFB-9DEA-88C31294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9E944-BDFA-4634-B8F3-883477FD69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