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90590"/>
        <c:axId val="21009909"/>
      </c:barChart>
      <c:catAx>
        <c:axId val="29890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09909"/>
        <c:crosses val="autoZero"/>
        <c:auto val="1"/>
        <c:lblAlgn val="ctr"/>
        <c:lblOffset val="100"/>
        <c:noMultiLvlLbl val="0"/>
      </c:catAx>
      <c:valAx>
        <c:axId val="21009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90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051-08E4-401C-8753-C9F3DA37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E68-C68E-4E9B-9294-A3A4B9EF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F30-F3CD-4B6B-B2C0-68C64648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088-4BA6-40FE-976E-828C5840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5B5-3EAF-48A0-AFCA-E281693B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282-0A09-467D-80BC-2E8CC68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0C3-FEAB-498E-B28D-0EF93B22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5EF-03C3-4E51-9687-E72A93F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76E-EEAE-4AC2-8455-AE9D6DA7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B95-EBF6-428F-8078-8994F8D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6E2-17F2-433B-8026-2F53931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297-7392-4381-BBD0-69537AA1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21A90-C9C6-4E4E-9A37-9D064CA5E1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