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304920"/>
            <a:ext cx="777240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undles</a:t>
            </a:r>
            <a:br>
              <a:rPr sz="1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utzen Sie Ihre MS-DOS-Anwendungen  auf einem SPAR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®-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yste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t einem SunPC Hardware/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-Bundle erhalten SPARC-Benutzer di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chnells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ösung für die Nutzung von MS-DOS-Anwendu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-Bundles unterstützen auch Microsoft Windows- Anwen-dungen, die nicht in der Liste der von Wabi™ unterstützten Anwendungen enthalten s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4.1 unterstützt die meisten der gebräuchlichen PC-Netzwerk-protokolle, einschließlich TCP/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752480"/>
            <a:ext cx="385452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tere Information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 SunPC oder anderen SunSoft-Produkten erhalten Sie unter 512/434-1511. Drücken Sie die „1“. Sie können auch unsere Homepage im World Wide Web nut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4497480"/>
            <a:ext cx="36511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um Kauf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n SunPC rufen Sie 512/434-1511 an. Drücken Sie die „2“. Sie können sich auch an  Ihren Sun-Händler wenden.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